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gif" ContentType="image/gif"/>
  <Override PartName="/ppt/media/image24.gif" ContentType="image/gif"/>
  <Override PartName="/ppt/media/image17.png" ContentType="image/png"/>
  <Override PartName="/ppt/media/image26.jpeg" ContentType="image/jpeg"/>
  <Override PartName="/ppt/media/image5.jpeg" ContentType="image/jpeg"/>
  <Override PartName="/ppt/media/image8.gif" ContentType="image/gif"/>
  <Override PartName="/ppt/media/image33.gif" ContentType="image/gif"/>
  <Override PartName="/ppt/media/image27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31.gif" ContentType="image/gif"/>
  <Override PartName="/ppt/media/image7.jpeg" ContentType="image/jpeg"/>
  <Override PartName="/ppt/media/image12.jpeg" ContentType="image/jpeg"/>
  <Override PartName="/ppt/media/image13.jpeg" ContentType="image/jpeg"/>
  <Override PartName="/ppt/media/image2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9.jpeg" ContentType="image/jpeg"/>
  <Override PartName="/ppt/media/image20.jpeg" ContentType="image/jpeg"/>
  <Override PartName="/ppt/media/image32.wmf" ContentType="image/x-wmf"/>
  <Override PartName="/ppt/media/image21.jpeg" ContentType="image/jpeg"/>
  <Override PartName="/ppt/media/image22.png" ContentType="image/png"/>
  <Override PartName="/ppt/media/image23.gif" ContentType="image/gif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E17A-E2EE-4F84-958E-0AA1E639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3113-9A70-450F-AE7E-7E42D078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D2B0-2887-44B7-8929-36DAFDF1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B4FD-B0AF-4B3D-BD37-E04B58B9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F8D2-12B0-44E9-A3A0-55A87759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294C-06E2-4FDB-975E-199C1289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9785-0E78-4511-B0B1-CEFE162E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1F39-29E6-4441-B4F2-B6BC023B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58FE-4DBA-4808-88D8-B25917B2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760B-BBB7-4596-8343-A014088A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8FED-5C20-4DBF-ADE1-43F8BBA5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62AD-EC02-4F7C-8B51-B76DF05C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C26F-EC94-40B2-BCFC-5CD1507C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8426-29C7-42F4-9866-EC66B77F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A7B5-027B-411C-A22C-F6E78FE0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21FE-2FFA-42DE-A6A6-ACB8D850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90FC-87BF-46F2-9FBE-830211F8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6D571-717B-462E-8616-F20C02BE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68675-1982-496C-B608-057DEEAD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28C85-6C0C-4613-BDED-946365C6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3FCA4-190F-4EC9-A86D-55B193A1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56C4E-8D19-41F6-BD9F-B98BE70A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43CE-BC95-4921-8559-B9D571BC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74A47-E8F6-4E26-BAB4-64C058A9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58C41-7CEF-4FFC-A453-36AEFB4E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378AA-D639-405E-B666-71ADC63C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D1A3E-7FB6-4874-89CF-B36AA90A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409F1-8C08-4EC5-A37A-A83C4D29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C8F33-22E7-4BDF-BE12-377891B0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0EB09-7902-4621-ABD5-155DC79A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68E0C-AF00-426F-8506-CAC6FCBF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30DA3-0BD6-4F23-8499-EDBDE380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F5B3E-634B-4909-B733-40EDC6ED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5937-D5A9-4F2D-8A13-BEF04B47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64B7E-4E26-4828-BC5F-F8172635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56ABC-41CE-428F-BF24-CFC539A2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FEC45-D12F-48A8-98B1-84623FEA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29E33-D26C-40BC-8043-ACE03241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26A2F-F911-4E22-890B-DCC6E7B3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99199-F513-4E14-AE7E-C309AF7C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45C3F-8897-431C-8C4F-43602A1D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30278-7907-4035-BFEA-CA176CB5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297F1-B4DA-4E53-AC03-76E7B6DD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44DC-83FD-4FD5-9C0E-F9945BD1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7DE1-64A6-4901-A6EE-F15A831D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9359-9CD2-4CE5-B714-4A79B0E8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5DD3-E7DA-4AFB-A3F7-0F45552F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EB2A-D950-4A4B-8A1B-E52FE5F1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7826-5A17-429B-BF83-C92ACC6E809C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1B92-6CDB-48ED-BC5E-C91DD77BB442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A4D1-B019-4E5B-AFE9-3EA380573AD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9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3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4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6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C699-5FB1-44C1-A05C-C48507C0746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7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1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7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1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" Target="slide2.xm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39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40.xml"/><Relationship Id="rId6" Type="http://schemas.openxmlformats.org/officeDocument/2006/relationships/slide" Target="slide40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4.xml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27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gif"/><Relationship Id="rId3" Type="http://schemas.openxmlformats.org/officeDocument/2006/relationships/slide" Target="slide15.xm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30.xml"/><Relationship Id="rId3" Type="http://schemas.openxmlformats.org/officeDocument/2006/relationships/image" Target="../media/image31.gif"/><Relationship Id="rId4" Type="http://schemas.openxmlformats.org/officeDocument/2006/relationships/image" Target="../media/image32.wmf"/><Relationship Id="rId5" Type="http://schemas.openxmlformats.org/officeDocument/2006/relationships/image" Target="../media/image33.gif"/><Relationship Id="rId6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1040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348000" y="3333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黑体"/>
              </a:rPr>
              <a:t>英国王室存在的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5634000"/>
            <a:ext cx="9144000" cy="1224000"/>
          </a:xfrm>
          <a:prstGeom prst="rect">
            <a:avLst/>
          </a:prstGeom>
          <a:solidFill>
            <a:srgbClr val="ff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Comic Sans MS"/>
                <a:ea typeface="黑体"/>
              </a:rPr>
              <a:t>英王是国家元首，在对外交往中代表英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Comic Sans MS"/>
                <a:ea typeface="黑体"/>
              </a:rPr>
              <a:t>英王是国家的人格化，成为民族团结的纽带和国家统一的象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Comic Sans MS"/>
                <a:ea typeface="黑体"/>
              </a:rPr>
              <a:t>英王作为英联邦首脑，还起着维系英联邦的纽带作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5508720" y="1341360"/>
            <a:ext cx="3429000" cy="41418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5257800" cy="41403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9280" y="189000"/>
            <a:ext cx="2521080" cy="208584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17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 txBox="1"/>
            <p:nvPr/>
          </p:nvSpPr>
          <p:spPr>
            <a:xfrm>
              <a:off x="1763640" y="549360"/>
              <a:ext cx="6193080" cy="15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君主立宪制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179280" y="2708280"/>
            <a:ext cx="8785440" cy="27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含义——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（资本主义国家）以世袭的君主为国家元首，</a:t>
            </a:r>
            <a:r>
              <a:rPr b="1" lang="zh-CN" sz="36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君主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权力按</a:t>
            </a:r>
            <a:r>
              <a:rPr b="1" lang="zh-CN" sz="36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宪法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规定受到一定限制的</a:t>
            </a:r>
            <a:r>
              <a:rPr b="1" lang="zh-CN" sz="36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政权组织形式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067280" y="1700280"/>
            <a:ext cx="863640" cy="649080"/>
          </a:xfrm>
          <a:prstGeom prst="rightArrow">
            <a:avLst>
              <a:gd name="adj1" fmla="val 50000"/>
              <a:gd name="adj2" fmla="val 3326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Cloud"/>
          <p:cNvSpPr/>
          <p:nvPr/>
        </p:nvSpPr>
        <p:spPr>
          <a:xfrm>
            <a:off x="1258920" y="4984920"/>
            <a:ext cx="3241800" cy="18730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1688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年 </a:t>
            </a:r>
            <a:r>
              <a:rPr b="0" lang="zh-CN" sz="2000" spc="-1" strike="noStrike" u="sng">
                <a:solidFill>
                  <a:srgbClr val="336699"/>
                </a:solidFill>
                <a:uFillTx/>
                <a:latin typeface="Arial"/>
                <a:hlinkClick r:id="rId2" action="ppaction://hlinksldjump"/>
              </a:rPr>
              <a:t>光荣革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解决了议会和国王斗争的矛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459640" y="1700280"/>
            <a:ext cx="505080" cy="1873080"/>
          </a:xfrm>
          <a:custGeom>
            <a:avLst/>
            <a:gdLst>
              <a:gd name="textAreaLeft" fmla="*/ 67680 w 505080"/>
              <a:gd name="textAreaRight" fmla="*/ 437400 w 505080"/>
              <a:gd name="textAreaTop" fmla="*/ 327600 h 1873080"/>
              <a:gd name="textAreaBottom" fmla="*/ 135792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3141720"/>
            <a:ext cx="4321080" cy="1942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资产阶级和新贵族领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议会最终获得胜利，</a:t>
            </a:r>
            <a:r>
              <a:rPr b="0" lang="zh-CN" sz="2400" spc="-1" strike="noStrike" u="sng">
                <a:solidFill>
                  <a:srgbClr val="336699"/>
                </a:solidFill>
                <a:uFillTx/>
                <a:latin typeface="Arial"/>
                <a:hlinkClick r:id="rId3" action="ppaction://hlinksldjump"/>
              </a:rPr>
              <a:t>国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336699"/>
                </a:solidFill>
                <a:uFillTx/>
                <a:latin typeface="Arial"/>
                <a:hlinkClick r:id="rId4" action="ppaction://hlinksldjump"/>
              </a:rPr>
              <a:t>被押上断头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成立共和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08360" y="3645000"/>
            <a:ext cx="792360" cy="647640"/>
          </a:xfrm>
          <a:prstGeom prst="leftArrow">
            <a:avLst>
              <a:gd name="adj1" fmla="val 50000"/>
              <a:gd name="adj2" fmla="val 3058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2560" y="4653000"/>
            <a:ext cx="576360" cy="1727280"/>
          </a:xfrm>
          <a:custGeom>
            <a:avLst/>
            <a:gdLst>
              <a:gd name="textAreaLeft" fmla="*/ 77040 w 576360"/>
              <a:gd name="textAreaRight" fmla="*/ 499320 w 576360"/>
              <a:gd name="textAreaTop" fmla="*/ 302040 h 1727280"/>
              <a:gd name="textAreaBottom" fmla="*/ 125244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Document"/>
          <p:cNvSpPr/>
          <p:nvPr/>
        </p:nvSpPr>
        <p:spPr>
          <a:xfrm>
            <a:off x="5003640" y="981000"/>
            <a:ext cx="3240360" cy="20163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导火线及开始：为镇压苏格兰人民起义，国王不得不召开休会多年的议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言、历史纵横）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900000" y="1125360"/>
            <a:ext cx="2843280" cy="1871640"/>
            <a:chOff x="900000" y="1125360"/>
            <a:chExt cx="2843280" cy="1871640"/>
          </a:xfrm>
        </p:grpSpPr>
        <p:sp>
          <p:nvSpPr>
            <p:cNvPr id="328" name="Document"/>
            <p:cNvSpPr/>
            <p:nvPr/>
          </p:nvSpPr>
          <p:spPr>
            <a:xfrm>
              <a:off x="900000" y="1125360"/>
              <a:ext cx="2843280" cy="187164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22200" y="1485720"/>
              <a:ext cx="24112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根本原因：封建专制统治阻碍了</a:t>
              </a:r>
              <a:r>
                <a:rPr b="0" lang="zh-CN" sz="2400" spc="-1" strike="noStrike" u="sng">
                  <a:solidFill>
                    <a:srgbClr val="336699"/>
                  </a:solidFill>
                  <a:uFillTx/>
                  <a:latin typeface="Arial"/>
                  <a:hlinkClick r:id="rId5" action="ppaction://hlinksldjump"/>
                </a:rPr>
                <a:t>资本主义的发展</a:t>
              </a:r>
              <a:r>
                <a:rPr b="0" lang="zh-CN" sz="2400" spc="-1" strike="noStrike" u="sng">
                  <a:solidFill>
                    <a:srgbClr val="336699"/>
                  </a:solidFill>
                  <a:uFillTx/>
                  <a:latin typeface="Arial"/>
                  <a:hlinkClick r:id="rId6" action="ppaction://hlinksldjump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900000" y="3357720"/>
            <a:ext cx="2664000" cy="1223640"/>
          </a:xfrm>
          <a:prstGeom prst="roundRect">
            <a:avLst>
              <a:gd name="adj" fmla="val 16667"/>
            </a:avLst>
          </a:prstGeom>
          <a:solidFill>
            <a:srgbClr val="bfe3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斯图亚特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朝复辟，反攻倒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1280" y="24624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光荣革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0" y="5589720"/>
            <a:ext cx="863640" cy="576000"/>
          </a:xfrm>
          <a:prstGeom prst="rightArrow">
            <a:avLst>
              <a:gd name="adj1" fmla="val 50000"/>
              <a:gd name="adj2" fmla="val 3748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08720" y="5157720"/>
            <a:ext cx="3456000" cy="1366920"/>
          </a:xfrm>
          <a:prstGeom prst="octagon">
            <a:avLst>
              <a:gd name="adj" fmla="val 2928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结果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68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000" spc="-1" strike="noStrike" u="sng">
                <a:solidFill>
                  <a:srgbClr val="336699"/>
                </a:solidFill>
                <a:uFillTx/>
                <a:latin typeface="Arial"/>
                <a:hlinkClick r:id="rId7" action="ppaction://hlinksldjump"/>
              </a:rPr>
              <a:t>《</a:t>
            </a:r>
            <a:r>
              <a:rPr b="0" lang="zh-CN" sz="2000" spc="-1" strike="noStrike" u="sng">
                <a:solidFill>
                  <a:srgbClr val="336699"/>
                </a:solidFill>
                <a:uFillTx/>
                <a:latin typeface="Arial"/>
                <a:hlinkClick r:id="rId8" action="ppaction://hlinksldjump"/>
              </a:rPr>
              <a:t>权利法案</a:t>
            </a:r>
            <a:r>
              <a:rPr b="0" lang="zh-CN" sz="2000" spc="-1" strike="noStrike" u="sng">
                <a:solidFill>
                  <a:srgbClr val="336699"/>
                </a:solidFill>
                <a:uFillTx/>
                <a:latin typeface="Arial"/>
                <a:hlinkClick r:id="rId9" action="ppaction://hlinksldjump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奠定君主立宪制的基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67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96920" y="4797360"/>
            <a:ext cx="89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1649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年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月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30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日，查理一世被处死，其意义在于否定了君权神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2" action="ppaction://hlinksldjump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3631" y="10800"/>
                </a:moveTo>
                <a:lnTo>
                  <a:pt x="24136" y="3794"/>
                </a:lnTo>
                <a:lnTo>
                  <a:pt x="24136" y="17806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11786" y="3794"/>
                </a:lnTo>
                <a:lnTo>
                  <a:pt x="11786" y="17806"/>
                </a:lnTo>
                <a:lnTo>
                  <a:pt x="1012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50920" y="18900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Comic Sans MS"/>
                <a:ea typeface="隶书"/>
              </a:rPr>
              <a:t>二、议会权力的确立</a:t>
            </a:r>
            <a:br>
              <a:rPr sz="4000"/>
            </a:br>
            <a:r>
              <a:rPr b="1" lang="zh-CN" sz="4000" spc="-1" strike="noStrike">
                <a:solidFill>
                  <a:srgbClr val="9900cc"/>
                </a:solidFill>
                <a:latin typeface="Comic Sans MS"/>
                <a:ea typeface="隶书"/>
              </a:rPr>
              <a:t>1</a:t>
            </a:r>
            <a:r>
              <a:rPr b="1" lang="zh-CN" sz="4000" spc="-1" strike="noStrike">
                <a:solidFill>
                  <a:srgbClr val="9900cc"/>
                </a:solidFill>
                <a:latin typeface="Comic Sans MS"/>
                <a:ea typeface="隶书"/>
              </a:rPr>
              <a:t>、《权利法案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9528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凡未经议会同意，以国王权威停止法律或停止法律实施之僭越权力，为非法行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凡未经议会准许，借口国王特权，为国王而征收，或供国王使用而征收金钱，超出议会准许之时限或方式者，皆为非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设立审理宗教事务之钦差法庭之指令，以及一切其他同类指令与法庭，皆为非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除经议会同意之外，平时在本王国内征募或维持常备军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皆属违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10080" y="0"/>
            <a:ext cx="3429000" cy="1752480"/>
          </a:xfrm>
          <a:prstGeom prst="cloudCallout">
            <a:avLst>
              <a:gd name="adj1" fmla="val -33611"/>
              <a:gd name="adj2" fmla="val 57791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限制了国王哪些权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04000" y="2276640"/>
            <a:ext cx="1295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立法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84720" y="3573360"/>
            <a:ext cx="1295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征税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20000" y="4508640"/>
            <a:ext cx="12189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司法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00720" y="5734080"/>
            <a:ext cx="1295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军事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332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Comic Sans MS"/>
                <a:ea typeface="隶书"/>
              </a:rPr>
              <a:t>《权利法案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议会议员之选举应是自由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议会之演说自由、辩论或议事之自由，不应在议会之外任何法院或任何地方，受到弹劾或询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为伸雪一切诉冤，并为修正、加强与维护法律起见，议会应经常集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410080" y="0"/>
            <a:ext cx="3505320" cy="1676520"/>
          </a:xfrm>
          <a:prstGeom prst="cloudCallout">
            <a:avLst>
              <a:gd name="adj1" fmla="val -34101"/>
              <a:gd name="adj2" fmla="val 56912"/>
            </a:avLst>
          </a:prstGeom>
          <a:solidFill>
            <a:srgbClr val="bfe3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保证了议会哪些权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91320" y="2057400"/>
            <a:ext cx="1218960" cy="459720"/>
          </a:xfrm>
          <a:prstGeom prst="rect">
            <a:avLst/>
          </a:prstGeom>
          <a:solidFill>
            <a:srgbClr val="bf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选举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08720" y="3476520"/>
            <a:ext cx="1828800" cy="459720"/>
          </a:xfrm>
          <a:prstGeom prst="rect">
            <a:avLst/>
          </a:prstGeom>
          <a:solidFill>
            <a:srgbClr val="bf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言论自由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4343400"/>
            <a:ext cx="1295280" cy="459720"/>
          </a:xfrm>
          <a:prstGeom prst="rect">
            <a:avLst/>
          </a:prstGeom>
          <a:solidFill>
            <a:srgbClr val="bf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集会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80360" y="5300640"/>
            <a:ext cx="154764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0880" y="533520"/>
            <a:ext cx="83822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代议制的特点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议制下的民主化趋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1280" y="155736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—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83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年议会改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39640" y="2079720"/>
            <a:ext cx="8353440" cy="33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改革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权利法案》后，权益之争得以和平实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业革命以后，工业资产阶级兴起，要求获得更多的政治权利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改革结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业资产阶级获得了更多的议席，大大加强了在议会中的作用，为工业资本主义的进一步发展提供了保障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历史纵横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71280" y="24624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责任内阁制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93080" y="1700280"/>
            <a:ext cx="1887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Times New Roman"/>
                <a:ea typeface="华文新魏"/>
                <a:hlinkClick r:id="rId1" action="ppaction://hlinksldjump"/>
              </a:rPr>
              <a:t>内阁的由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256760" y="2925720"/>
            <a:ext cx="3106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责任内阁与议会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71280" y="24624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三、责任内阁制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59800" y="90792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内阁的由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042920" y="981000"/>
            <a:ext cx="7848360" cy="4753440"/>
            <a:chOff x="1042920" y="981000"/>
            <a:chExt cx="7848360" cy="4753440"/>
          </a:xfrm>
        </p:grpSpPr>
        <p:sp>
          <p:nvSpPr>
            <p:cNvPr id="361" name=""/>
            <p:cNvSpPr/>
            <p:nvPr/>
          </p:nvSpPr>
          <p:spPr>
            <a:xfrm>
              <a:off x="5370480" y="981000"/>
              <a:ext cx="3520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4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（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）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内阁的原意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密室，早期是国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与顾问和助手开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的地方。（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2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）多数党实际控制政权，后逐渐成为国王直辖的最高行政机关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70480" y="996120"/>
              <a:ext cx="3228120" cy="28728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42920" y="1617120"/>
              <a:ext cx="689616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  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（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3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）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1714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年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即位的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乔治一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出生于德国，不懂英语，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英国的事务也不感兴趣，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至不出席内阁会议而让大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们去料理国事。大臣们有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就自己先商定对策，然后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提交国王，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内阁制由此得以形成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。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国王也就逐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成为“统而不治”的国家元首。内阁承担实际行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职责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 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1721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年，罗伯特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·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沃尔波尔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成为英国历史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第一任内阁首相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>
            <a:hlinkClick r:id="rId1" action="ppaction://hlinksldjump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3631" y="10800"/>
                </a:moveTo>
                <a:lnTo>
                  <a:pt x="24136" y="3794"/>
                </a:lnTo>
                <a:lnTo>
                  <a:pt x="24136" y="17806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11786" y="3794"/>
                </a:lnTo>
                <a:lnTo>
                  <a:pt x="11786" y="17806"/>
                </a:lnTo>
                <a:lnTo>
                  <a:pt x="1012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295280" y="3800520"/>
            <a:ext cx="1835280" cy="22208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657600" y="1133640"/>
            <a:ext cx="2133720" cy="16570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6477120" y="4410000"/>
            <a:ext cx="2361960" cy="15796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2895480" y="1209600"/>
            <a:ext cx="838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首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5477040"/>
            <a:ext cx="838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议会下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4120" y="5477040"/>
            <a:ext cx="12189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内阁（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政府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50958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2478000">
            <a:off x="2127600" y="1630080"/>
            <a:ext cx="7290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Times New Roman"/>
              </a:rPr>
              <a:t>下院大选中获胜的多数党领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2284800">
            <a:off x="3432600" y="2658600"/>
            <a:ext cx="454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Times New Roman"/>
              </a:rPr>
              <a:t>对议会负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200400" y="47912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9096800">
            <a:off x="6557040" y="2121840"/>
            <a:ext cx="72900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Times New Roman"/>
              </a:rPr>
              <a:t>提出名单组成责任制内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86200" y="4410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Times New Roman"/>
              </a:rPr>
              <a:t>对议会集体负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5791320" y="1743120"/>
            <a:ext cx="2133360" cy="2666880"/>
            <a:chOff x="5791320" y="1743120"/>
            <a:chExt cx="2133360" cy="2666880"/>
          </a:xfrm>
        </p:grpSpPr>
        <p:sp>
          <p:nvSpPr>
            <p:cNvPr id="378" name=""/>
            <p:cNvSpPr/>
            <p:nvPr/>
          </p:nvSpPr>
          <p:spPr>
            <a:xfrm>
              <a:off x="5791320" y="174312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4680" y="1743120"/>
              <a:ext cx="0" cy="26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7093080" y="1916280"/>
            <a:ext cx="16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内阁与首相在政治上共进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429000" y="5095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Times New Roman"/>
              </a:rPr>
              <a:t>监督内阁，从而控制行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" y="380880"/>
            <a:ext cx="243828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英国议会与政府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438280" y="2352600"/>
            <a:ext cx="11430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3200040" y="2809800"/>
            <a:ext cx="7621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867280" y="2428920"/>
            <a:ext cx="1676520" cy="1905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900000" y="18900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责任制内阁制的形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26920" y="836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假如你是英国下院议员，你是如何当选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71640" y="1413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假如你是英国首相，你是如何当选的？你的地位如何？你有哪些权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71640" y="242100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假如你是英国首相，你是如何组阁的？内阁有哪些权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348000" y="3573360"/>
            <a:ext cx="180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选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任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提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批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76360" y="3716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选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547640" y="450864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国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619280" y="530064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首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619280" y="602136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国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148360" y="3645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下院议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76720" y="450864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多数党领袖为首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254560" y="530064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内阁和政府成员名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48360" y="6021360"/>
            <a:ext cx="345744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责任制内阁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77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770" fill="hold"/>
                                        <p:tgtEl>
                                          <p:spTgt spid="3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77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770" fill="hold"/>
                                        <p:tgtEl>
                                          <p:spTgt spid="3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5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2708280"/>
            <a:ext cx="4116240" cy="414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308560" y="0"/>
            <a:ext cx="3835440" cy="4653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68360" y="1700280"/>
            <a:ext cx="331956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伊莉莎白女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96000" y="5157720"/>
            <a:ext cx="2592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宋体"/>
              </a:rPr>
              <a:t>布莱尔首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62064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是谁在统治英国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79218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布朗上台组阁一定是具备了什么条件？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8360" y="476280"/>
            <a:ext cx="76960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Comic Sans MS"/>
                <a:ea typeface="华文行楷"/>
              </a:rPr>
              <a:t>首先，工党必须在下院大选中获胜成为多数党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Comic Sans MS"/>
                <a:ea typeface="华文行楷"/>
              </a:rPr>
              <a:t>其次，工党必须单独拥有下院中一半以上的席位或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Comic Sans MS"/>
                <a:ea typeface="华文行楷"/>
              </a:rPr>
              <a:t>其他党派联合拥有一半以上的席位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Comic Sans MS"/>
                <a:ea typeface="华文行楷"/>
              </a:rPr>
              <a:t>再次，他本人必须是工党领袖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Comic Sans MS"/>
                <a:ea typeface="华文行楷"/>
              </a:rPr>
              <a:t>最后，要由国王任命才行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468360" y="3471840"/>
            <a:ext cx="8496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00b200"/>
                </a:solidFill>
                <a:uFillTx/>
                <a:latin typeface="Arial"/>
                <a:ea typeface="楷体_GB2312"/>
              </a:rPr>
              <a:t>责任制内阁制的特点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200"/>
                </a:solidFill>
                <a:latin typeface="Arial"/>
                <a:ea typeface="楷体_GB2312"/>
              </a:rPr>
              <a:t>责任内阁制为在下院大选中获胜的多数党领袖首相负责组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200"/>
                </a:solidFill>
                <a:latin typeface="Arial"/>
                <a:ea typeface="楷体_GB2312"/>
              </a:rPr>
              <a:t>责任内阁制对议会和首相负责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200"/>
                </a:solidFill>
                <a:latin typeface="Arial"/>
                <a:ea typeface="楷体_GB2312"/>
              </a:rPr>
              <a:t>首相是国家政治生活的最高决策者和领导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755640" y="476280"/>
            <a:ext cx="763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看下列材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朝废除丞相，皇帝君临天下，直接处理国家大事，设殿阁大学士辅政，后逐渐演变为内阁，成为与六部并行的国家行政机关，内阁的最高长官称“首辅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72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沃尔波尔成为英国历史上第一任内阁首相，英国的内阁制形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55640" y="4508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请问：同样是“内阁”，两者有何根本区别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900000" y="1268280"/>
            <a:ext cx="7488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明朝——封建君主专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封建王朝加强君主专制的产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英国——君主立宪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资产阶级民主政治的产物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、英国的政党制度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95280" y="1828800"/>
            <a:ext cx="8353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发展演变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辉格党、托利党（资产阶级政党的雏形，轮流执政）      自由党、保守党 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世纪）        工党、保守党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世纪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年代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目的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为了获得议会多数席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"/>
          <p:cNvSpPr/>
          <p:nvPr/>
        </p:nvSpPr>
        <p:spPr>
          <a:xfrm>
            <a:off x="1979640" y="2852640"/>
            <a:ext cx="863640" cy="649440"/>
          </a:xfrm>
          <a:prstGeom prst="rightArrow">
            <a:avLst>
              <a:gd name="adj1" fmla="val 50000"/>
              <a:gd name="adj2" fmla="val 3324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667640" y="2924280"/>
            <a:ext cx="863640" cy="649080"/>
          </a:xfrm>
          <a:prstGeom prst="rightArrow">
            <a:avLst>
              <a:gd name="adj1" fmla="val 50000"/>
              <a:gd name="adj2" fmla="val 3326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333360"/>
            <a:ext cx="280836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问题探究：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10" name=""/>
          <p:cNvSpPr/>
          <p:nvPr/>
        </p:nvSpPr>
        <p:spPr>
          <a:xfrm>
            <a:off x="3203640" y="189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国的君主立宪制是怎样形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24000" y="1125360"/>
            <a:ext cx="2376360" cy="5327640"/>
            <a:chOff x="324000" y="1125360"/>
            <a:chExt cx="2376360" cy="5327640"/>
          </a:xfrm>
        </p:grpSpPr>
        <p:sp>
          <p:nvSpPr>
            <p:cNvPr id="412" name=""/>
            <p:cNvSpPr/>
            <p:nvPr/>
          </p:nvSpPr>
          <p:spPr>
            <a:xfrm>
              <a:off x="324000" y="112536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经济基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24000" y="206064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4000" y="299700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4000" y="393372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4000" y="4868640"/>
              <a:ext cx="2376360" cy="6480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000" y="580536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3203640" y="981000"/>
            <a:ext cx="568800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资本主义经济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95280" y="333360"/>
            <a:ext cx="280836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问题探究：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0" name=""/>
          <p:cNvSpPr/>
          <p:nvPr/>
        </p:nvSpPr>
        <p:spPr>
          <a:xfrm>
            <a:off x="3203640" y="189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国的君主立宪制是怎样形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39640" y="907920"/>
            <a:ext cx="2376720" cy="5327640"/>
            <a:chOff x="539640" y="907920"/>
            <a:chExt cx="2376720" cy="5327640"/>
          </a:xfrm>
        </p:grpSpPr>
        <p:sp>
          <p:nvSpPr>
            <p:cNvPr id="422" name=""/>
            <p:cNvSpPr/>
            <p:nvPr/>
          </p:nvSpPr>
          <p:spPr>
            <a:xfrm>
              <a:off x="539640" y="907920"/>
              <a:ext cx="237672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经济基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9640" y="1843200"/>
              <a:ext cx="237672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政治前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9640" y="2779560"/>
              <a:ext cx="237672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9640" y="3716280"/>
              <a:ext cx="237672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9640" y="4651200"/>
              <a:ext cx="2376720" cy="6480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39640" y="5587920"/>
              <a:ext cx="237672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419640" y="907920"/>
            <a:ext cx="5472000" cy="6480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资本主义经济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27280" y="1844640"/>
            <a:ext cx="561672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英国的资产阶级革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419640" y="2924280"/>
            <a:ext cx="5545080" cy="361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英国资产阶级革命爆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64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国王查理一世被处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66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朝复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动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变，这次不流血的革命被称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这次革命最重要成果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建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95280" y="333360"/>
            <a:ext cx="280836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问题探究：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2" name=""/>
          <p:cNvSpPr/>
          <p:nvPr/>
        </p:nvSpPr>
        <p:spPr>
          <a:xfrm>
            <a:off x="3203640" y="189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国的君主立宪制是怎样形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468360" y="909720"/>
            <a:ext cx="2376360" cy="5327640"/>
            <a:chOff x="468360" y="909720"/>
            <a:chExt cx="2376360" cy="5327640"/>
          </a:xfrm>
        </p:grpSpPr>
        <p:sp>
          <p:nvSpPr>
            <p:cNvPr id="434" name=""/>
            <p:cNvSpPr/>
            <p:nvPr/>
          </p:nvSpPr>
          <p:spPr>
            <a:xfrm>
              <a:off x="468360" y="90972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经济基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8360" y="184500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政治前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8360" y="278136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历史传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8360" y="371808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8360" y="4653000"/>
              <a:ext cx="2376360" cy="6480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8360" y="558972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3348000" y="981000"/>
            <a:ext cx="554508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资本主义经济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348000" y="1916280"/>
            <a:ext cx="554508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英国的资产阶级革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348000" y="2852640"/>
            <a:ext cx="554508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法律至上、有限王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419640" y="3789360"/>
            <a:ext cx="5545080" cy="205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议会起源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世纪，英国贵族在市民的支持下，发动起义，迫使国王在限制王权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签字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，贵族、骑士和市民等召开会议，这就是英国议会的开端，后来议会逐渐演变成上下两院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95280" y="333360"/>
            <a:ext cx="280836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问题探究：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45" name=""/>
          <p:cNvSpPr/>
          <p:nvPr/>
        </p:nvSpPr>
        <p:spPr>
          <a:xfrm>
            <a:off x="3203640" y="189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国的君主立宪制是怎样形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68360" y="907920"/>
            <a:ext cx="2376360" cy="5327640"/>
            <a:chOff x="468360" y="907920"/>
            <a:chExt cx="2376360" cy="5327640"/>
          </a:xfrm>
        </p:grpSpPr>
        <p:sp>
          <p:nvSpPr>
            <p:cNvPr id="447" name=""/>
            <p:cNvSpPr/>
            <p:nvPr/>
          </p:nvSpPr>
          <p:spPr>
            <a:xfrm>
              <a:off x="468360" y="90792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经济基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8360" y="184320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政治前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8360" y="277956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历史传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8360" y="371628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理论依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8360" y="4651200"/>
              <a:ext cx="2376360" cy="6480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8360" y="558792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348000" y="981000"/>
            <a:ext cx="554508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资本主义经济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348000" y="1916280"/>
            <a:ext cx="554508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英国的资产阶级革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348000" y="2852640"/>
            <a:ext cx="554508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法律至上、有限王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48000" y="3789360"/>
            <a:ext cx="554508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英国启蒙思想家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95280" y="333360"/>
            <a:ext cx="280836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问题探究：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58" name=""/>
          <p:cNvSpPr/>
          <p:nvPr/>
        </p:nvSpPr>
        <p:spPr>
          <a:xfrm>
            <a:off x="3203640" y="189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国的君主立宪制是怎样形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395280" y="907920"/>
            <a:ext cx="2376360" cy="5327640"/>
            <a:chOff x="395280" y="907920"/>
            <a:chExt cx="2376360" cy="5327640"/>
          </a:xfrm>
        </p:grpSpPr>
        <p:sp>
          <p:nvSpPr>
            <p:cNvPr id="460" name=""/>
            <p:cNvSpPr/>
            <p:nvPr/>
          </p:nvSpPr>
          <p:spPr>
            <a:xfrm>
              <a:off x="395280" y="90792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经济基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5280" y="184320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政治前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95280" y="277956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历史传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5280" y="371628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理论依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5280" y="4651200"/>
              <a:ext cx="2376360" cy="6480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正式确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95280" y="558792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203640" y="907920"/>
            <a:ext cx="5616360" cy="6480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资本主义经济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6720" y="1844640"/>
            <a:ext cx="561636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英国的资产阶级革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203640" y="2781360"/>
            <a:ext cx="561636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资本主义经济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203640" y="3716280"/>
            <a:ext cx="561636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英国启蒙思想家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276720" y="4653000"/>
            <a:ext cx="561636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《权利法案》的颁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95280" y="333360"/>
            <a:ext cx="280836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问题探究：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72" name=""/>
          <p:cNvSpPr/>
          <p:nvPr/>
        </p:nvSpPr>
        <p:spPr>
          <a:xfrm>
            <a:off x="3203640" y="189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国的君主立宪制是怎样形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68360" y="907920"/>
            <a:ext cx="2376360" cy="5327640"/>
            <a:chOff x="468360" y="907920"/>
            <a:chExt cx="2376360" cy="5327640"/>
          </a:xfrm>
        </p:grpSpPr>
        <p:sp>
          <p:nvSpPr>
            <p:cNvPr id="474" name=""/>
            <p:cNvSpPr/>
            <p:nvPr/>
          </p:nvSpPr>
          <p:spPr>
            <a:xfrm>
              <a:off x="468360" y="90792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经济基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8360" y="184320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政治前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68360" y="277956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历史传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8360" y="371628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理论依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8360" y="4651200"/>
              <a:ext cx="2376360" cy="6480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正式确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8360" y="558792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展完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3132000" y="907920"/>
            <a:ext cx="5688000" cy="6480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资本主义经济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203640" y="1844640"/>
            <a:ext cx="568800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英国的资产阶级革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203640" y="2781360"/>
            <a:ext cx="568800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资本主义经济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203640" y="3789360"/>
            <a:ext cx="568800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英国启蒙思想家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203640" y="4653000"/>
            <a:ext cx="568800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《权利法案》的颁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32000" y="5661000"/>
            <a:ext cx="568800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责任内阁制和议会改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世纪中叶英国著名政治家老威廉•庇特在一次演讲中说的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Comic Sans MS"/>
              </a:rPr>
              <a:t>在英国，由于财产权是神圣的，再贫穷的人在他的寒舍里也敢于对抗国王的权威。风可以进这所房子，雨可以进这所房子，房子甚至会在风雨中飘摇，但是国王不能踏进这所房子，国王的千军万马不敢踏进这所门槛已经破损了的破房子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在我们今天看来英国既古老而又现代，既传统而又常新，既执着地保守而又充分地自由。英国的国王制度至今仍然存在。那么国王神圣不可动摇的地位是从什么时候开始动摇的呢？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1295280" cy="8654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grpSp>
        <p:nvGrpSpPr>
          <p:cNvPr id="487" name=""/>
          <p:cNvGrpSpPr/>
          <p:nvPr/>
        </p:nvGrpSpPr>
        <p:grpSpPr>
          <a:xfrm>
            <a:off x="395280" y="620640"/>
            <a:ext cx="5409720" cy="5638680"/>
            <a:chOff x="395280" y="620640"/>
            <a:chExt cx="5409720" cy="5638680"/>
          </a:xfrm>
        </p:grpSpPr>
        <p:grpSp>
          <p:nvGrpSpPr>
            <p:cNvPr id="488" name=""/>
            <p:cNvGrpSpPr/>
            <p:nvPr/>
          </p:nvGrpSpPr>
          <p:grpSpPr>
            <a:xfrm>
              <a:off x="699840" y="1154160"/>
              <a:ext cx="4876560" cy="5105160"/>
              <a:chOff x="699840" y="1154160"/>
              <a:chExt cx="4876560" cy="5105160"/>
            </a:xfrm>
          </p:grpSpPr>
          <p:sp>
            <p:nvSpPr>
              <p:cNvPr id="489" name=""/>
              <p:cNvSpPr/>
              <p:nvPr/>
            </p:nvSpPr>
            <p:spPr>
              <a:xfrm>
                <a:off x="699840" y="1154160"/>
                <a:ext cx="4876560" cy="5105160"/>
              </a:xfrm>
              <a:prstGeom prst="flowChartAlternateProcess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928080" y="1763280"/>
                <a:ext cx="828360" cy="4597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内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468320" y="1763280"/>
                <a:ext cx="828360" cy="4597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国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928080" y="3422160"/>
                <a:ext cx="902880" cy="4597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下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68320" y="3422160"/>
                <a:ext cx="828360" cy="4597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上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928080" y="5163840"/>
                <a:ext cx="4368600" cy="45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               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选   民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44840" y="2317320"/>
                <a:ext cx="1102320" cy="1026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多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组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840920" y="2238120"/>
                <a:ext cx="546120" cy="1105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任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01040" y="4214520"/>
                <a:ext cx="546120" cy="1107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选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1304280" y="3898440"/>
                <a:ext cx="0" cy="12650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1304280" y="2316960"/>
                <a:ext cx="0" cy="11062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844520" y="2317320"/>
                <a:ext cx="0" cy="11062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1981800" y="3741480"/>
                <a:ext cx="2184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766520" y="1991880"/>
                <a:ext cx="2742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3" name="" descr=""/>
            <p:cNvPicPr/>
            <p:nvPr/>
          </p:nvPicPr>
          <p:blipFill>
            <a:blip r:embed="rId2"/>
            <a:stretch/>
          </p:blipFill>
          <p:spPr>
            <a:xfrm>
              <a:off x="4052520" y="620640"/>
              <a:ext cx="1752480" cy="115884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pic>
          <p:nvPicPr>
            <p:cNvPr id="504" name="" descr=""/>
            <p:cNvPicPr/>
            <p:nvPr/>
          </p:nvPicPr>
          <p:blipFill>
            <a:blip r:embed="rId3"/>
            <a:stretch/>
          </p:blipFill>
          <p:spPr>
            <a:xfrm>
              <a:off x="1537920" y="1154160"/>
              <a:ext cx="914040" cy="68580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pic>
          <p:nvPicPr>
            <p:cNvPr id="505" name="" descr=""/>
            <p:cNvPicPr/>
            <p:nvPr/>
          </p:nvPicPr>
          <p:blipFill>
            <a:blip r:embed="rId4"/>
            <a:stretch/>
          </p:blipFill>
          <p:spPr>
            <a:xfrm>
              <a:off x="2376360" y="2982960"/>
              <a:ext cx="1599840" cy="105876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506" name=""/>
            <p:cNvSpPr/>
            <p:nvPr/>
          </p:nvSpPr>
          <p:spPr>
            <a:xfrm>
              <a:off x="2680920" y="4125960"/>
              <a:ext cx="106668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议会大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5280" y="772920"/>
              <a:ext cx="114264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唐宁街十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00040" y="1001520"/>
              <a:ext cx="60912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首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62160" y="1382760"/>
              <a:ext cx="106632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白金汉宫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5943600" y="1752480"/>
            <a:ext cx="3200400" cy="2128320"/>
          </a:xfrm>
          <a:prstGeom prst="rect">
            <a:avLst/>
          </a:prstGeom>
          <a:solidFill>
            <a:srgbClr val="0000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、君主制、民主制、贵族制三者融为一体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、君主保留，但议会掌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、以议会和责任内阁为核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、国王临朝不理政，代表国家，是民族团结的纽带和国家统一的象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477120" y="533520"/>
            <a:ext cx="198108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英国政体结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258920" y="3860280"/>
            <a:ext cx="0" cy="129564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332000" y="2205000"/>
            <a:ext cx="0" cy="12240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63640" y="1989000"/>
            <a:ext cx="27370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59280" y="2349360"/>
            <a:ext cx="0" cy="100836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1763280" y="2133720"/>
            <a:ext cx="259236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17560" y="198900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幼圆"/>
              </a:rPr>
              <a:t>形式任命</a:t>
            </a:r>
            <a:r>
              <a:rPr b="1" lang="zh-CN" sz="2800" spc="-1" strike="noStrike">
                <a:solidFill>
                  <a:srgbClr val="5f0ed6"/>
                </a:solidFill>
                <a:latin typeface="Tahoma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619280" y="2276640"/>
            <a:ext cx="720720" cy="7920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1763640" y="2205000"/>
            <a:ext cx="720720" cy="7192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rot="18900000">
            <a:off x="1766880" y="2419200"/>
            <a:ext cx="4546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幼圆"/>
              </a:rPr>
              <a:t>负 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rot="19260000">
            <a:off x="2199240" y="2058840"/>
            <a:ext cx="454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幼圆"/>
              </a:rPr>
              <a:t>监 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79640" y="4941720"/>
            <a:ext cx="1584360" cy="5763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民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067280" y="4005360"/>
            <a:ext cx="1657080" cy="576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贵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683640" y="4149720"/>
            <a:ext cx="502920" cy="863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民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219640" y="1700280"/>
            <a:ext cx="1871640" cy="5763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君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50920" y="3141720"/>
            <a:ext cx="2305080" cy="503280"/>
          </a:xfrm>
          <a:prstGeom prst="plus">
            <a:avLst>
              <a:gd name="adj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权力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黑体"/>
                <a:ea typeface="黑体"/>
              </a:rPr>
              <a:t>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结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英国君主立宪制的建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500"/>
                            </p:stCondLst>
                            <p:childTnLst>
                              <p:par>
                                <p:cTn id="6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4500"/>
                            </p:stCondLst>
                            <p:childTnLst>
                              <p:par>
                                <p:cTn id="6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830920" y="6248520"/>
            <a:ext cx="3313080" cy="60948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651640" y="333360"/>
            <a:ext cx="3313080" cy="29401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24000" y="260280"/>
            <a:ext cx="52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国首相布莱尔追随美国出兵伊拉克，因而在国内饱受争议，你认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◆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内阁成员大体上是赞成还是反对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24000" y="33577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◆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女王伊丽莎白二世如果反对，布莱尔会不会为此而撤兵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4000" y="479736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◆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如果议会中大多数都极力反对，结果又会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116000" y="42926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不会。首相掌握行政大权，不对国王负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1280" y="26370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赞同。集体负责，共同进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50920" y="537372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议会可以通过对政府的不信任案，要求内阁下台；内阁要么下台，要么宣布解散议会，重新选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1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1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 txBox="1"/>
            <p:nvPr/>
          </p:nvSpPr>
          <p:spPr>
            <a:xfrm>
              <a:off x="1763640" y="549360"/>
              <a:ext cx="6193080" cy="15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君主立宪制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324000" y="2637000"/>
            <a:ext cx="8569080" cy="28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95280" y="2781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一位英国的宪法权威人士曾说：“上下两院如果作出决定，就是把女王本人的死刑判决书送到她面前，她也不得不签字。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539640" y="476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16000" y="189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延伸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英国君主立宪制的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8360" y="1052640"/>
            <a:ext cx="8351640" cy="27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、大大削弱了国王的权力，议会及政府逐步掌握了治理国家的权力，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保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资产阶级控制国家政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、结束了英国的封建专制制度， 使得英国走上资产阶级政治民主化的道路，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促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英国资本主义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3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、代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历史发展的趋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4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、影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其他国家的资产阶级制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树立了一种模式，即君主立宪制度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0"/>
            <a:ext cx="9144000" cy="652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英国的“光荣革命”是由哪一矛盾直接激化而爆发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阶级矛盾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宗教矛盾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民族矛盾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国际矛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英国的革命实际上是议会的变革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革命前是国王的议会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革命后是议会的国王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.”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这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革命前后国王地位没变，议会发生了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革命后议会和国王共同掌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革命前后议会和国王互换位置且发生质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革命只改形式未变本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下列关于英国君主立宪制的表述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正确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融君主制、贵族制与民主制为一体的混合物 ②以议会内阁制为核心 ③国王有权废除任何法律 ④是资产阶级代议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①②③④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①②③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①②④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②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1689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年英国议会颁布《权利法案》的直接目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阻止斯图亚特王朝复辟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限制国王的权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扩大资产阶级的政治权利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废除君主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英国国家政治生活中的最高决策者和领导者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国王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首相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上院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下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95280" y="404640"/>
            <a:ext cx="995400" cy="503280"/>
          </a:xfrm>
          <a:custGeom>
            <a:avLst/>
            <a:gdLst/>
            <a:ahLst/>
            <a:rect l="l" t="t" r="r" b="b"/>
            <a:pathLst>
              <a:path w="627" h="317">
                <a:moveTo>
                  <a:pt x="75" y="45"/>
                </a:moveTo>
                <a:cubicBezTo>
                  <a:pt x="37" y="181"/>
                  <a:pt x="0" y="317"/>
                  <a:pt x="75" y="317"/>
                </a:cubicBezTo>
                <a:cubicBezTo>
                  <a:pt x="150" y="317"/>
                  <a:pt x="437" y="90"/>
                  <a:pt x="528" y="45"/>
                </a:cubicBezTo>
                <a:cubicBezTo>
                  <a:pt x="619" y="0"/>
                  <a:pt x="611" y="52"/>
                  <a:pt x="619" y="45"/>
                </a:cubicBezTo>
                <a:cubicBezTo>
                  <a:pt x="627" y="38"/>
                  <a:pt x="581" y="7"/>
                  <a:pt x="57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24000" y="2349360"/>
            <a:ext cx="995040" cy="503280"/>
          </a:xfrm>
          <a:custGeom>
            <a:avLst/>
            <a:gdLst/>
            <a:ahLst/>
            <a:rect l="l" t="t" r="r" b="b"/>
            <a:pathLst>
              <a:path w="627" h="317">
                <a:moveTo>
                  <a:pt x="75" y="45"/>
                </a:moveTo>
                <a:cubicBezTo>
                  <a:pt x="37" y="181"/>
                  <a:pt x="0" y="317"/>
                  <a:pt x="75" y="317"/>
                </a:cubicBezTo>
                <a:cubicBezTo>
                  <a:pt x="150" y="317"/>
                  <a:pt x="437" y="90"/>
                  <a:pt x="528" y="45"/>
                </a:cubicBezTo>
                <a:cubicBezTo>
                  <a:pt x="619" y="0"/>
                  <a:pt x="611" y="52"/>
                  <a:pt x="619" y="45"/>
                </a:cubicBezTo>
                <a:cubicBezTo>
                  <a:pt x="627" y="38"/>
                  <a:pt x="581" y="7"/>
                  <a:pt x="57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0" y="4365720"/>
            <a:ext cx="995400" cy="503280"/>
          </a:xfrm>
          <a:custGeom>
            <a:avLst/>
            <a:gdLst/>
            <a:ahLst/>
            <a:rect l="l" t="t" r="r" b="b"/>
            <a:pathLst>
              <a:path w="627" h="317">
                <a:moveTo>
                  <a:pt x="75" y="45"/>
                </a:moveTo>
                <a:cubicBezTo>
                  <a:pt x="37" y="181"/>
                  <a:pt x="0" y="317"/>
                  <a:pt x="75" y="317"/>
                </a:cubicBezTo>
                <a:cubicBezTo>
                  <a:pt x="150" y="317"/>
                  <a:pt x="437" y="90"/>
                  <a:pt x="528" y="45"/>
                </a:cubicBezTo>
                <a:cubicBezTo>
                  <a:pt x="619" y="0"/>
                  <a:pt x="611" y="52"/>
                  <a:pt x="619" y="45"/>
                </a:cubicBezTo>
                <a:cubicBezTo>
                  <a:pt x="627" y="38"/>
                  <a:pt x="581" y="7"/>
                  <a:pt x="57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716360" y="5229360"/>
            <a:ext cx="995400" cy="503280"/>
          </a:xfrm>
          <a:custGeom>
            <a:avLst/>
            <a:gdLst/>
            <a:ahLst/>
            <a:rect l="l" t="t" r="r" b="b"/>
            <a:pathLst>
              <a:path w="627" h="317">
                <a:moveTo>
                  <a:pt x="75" y="45"/>
                </a:moveTo>
                <a:cubicBezTo>
                  <a:pt x="37" y="181"/>
                  <a:pt x="0" y="317"/>
                  <a:pt x="75" y="317"/>
                </a:cubicBezTo>
                <a:cubicBezTo>
                  <a:pt x="150" y="317"/>
                  <a:pt x="437" y="90"/>
                  <a:pt x="528" y="45"/>
                </a:cubicBezTo>
                <a:cubicBezTo>
                  <a:pt x="619" y="0"/>
                  <a:pt x="611" y="52"/>
                  <a:pt x="619" y="45"/>
                </a:cubicBezTo>
                <a:cubicBezTo>
                  <a:pt x="627" y="38"/>
                  <a:pt x="581" y="7"/>
                  <a:pt x="57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08000" y="6354720"/>
            <a:ext cx="995400" cy="503280"/>
          </a:xfrm>
          <a:custGeom>
            <a:avLst/>
            <a:gdLst/>
            <a:ahLst/>
            <a:rect l="l" t="t" r="r" b="b"/>
            <a:pathLst>
              <a:path w="627" h="317">
                <a:moveTo>
                  <a:pt x="75" y="45"/>
                </a:moveTo>
                <a:cubicBezTo>
                  <a:pt x="37" y="181"/>
                  <a:pt x="0" y="317"/>
                  <a:pt x="75" y="317"/>
                </a:cubicBezTo>
                <a:cubicBezTo>
                  <a:pt x="150" y="317"/>
                  <a:pt x="437" y="90"/>
                  <a:pt x="528" y="45"/>
                </a:cubicBezTo>
                <a:cubicBezTo>
                  <a:pt x="619" y="0"/>
                  <a:pt x="611" y="52"/>
                  <a:pt x="619" y="45"/>
                </a:cubicBezTo>
                <a:cubicBezTo>
                  <a:pt x="627" y="38"/>
                  <a:pt x="581" y="7"/>
                  <a:pt x="57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 rot="5400000">
            <a:off x="7647840" y="5466600"/>
            <a:ext cx="1628640" cy="722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巩固练习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  <p:transition>
    <p:blinds dir="horz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9144000" cy="693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黑体"/>
              </a:rPr>
              <a:t>课堂延伸一：中英两国政治制度比较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1689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79280" y="836640"/>
            <a:ext cx="8785440" cy="563976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材料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天下大小事务，皆朕一人亲理，无可旁贷。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要务分于他人，则断不可行。所以无论，朕必躬自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康熙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材料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凡未经议会同意，以国王权威停止法律或停止法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施之僭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权力，为非法权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68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《权利法案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较中英两国政治体制有何本质的不同？不同的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治体制给两国分别带来了什么样的影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" name=""/>
          <p:cNvGraphicFramePr/>
          <p:nvPr/>
        </p:nvGraphicFramePr>
        <p:xfrm>
          <a:off x="250920" y="1268280"/>
          <a:ext cx="8496360" cy="4044960"/>
        </p:xfrm>
        <a:graphic>
          <a:graphicData uri="http://schemas.openxmlformats.org/drawingml/2006/table">
            <a:tbl>
              <a:tblPr/>
              <a:tblGrid>
                <a:gridCol w="1728720"/>
                <a:gridCol w="3887640"/>
                <a:gridCol w="2880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中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英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国  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政  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政党制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立法机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行政机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国家元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4" name=""/>
          <p:cNvSpPr/>
          <p:nvPr/>
        </p:nvSpPr>
        <p:spPr>
          <a:xfrm>
            <a:off x="2627280" y="1916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人民民主专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683800" y="249228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人民代表大会制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共和制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50920" y="314172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黑体"/>
                <a:ea typeface="黑体"/>
              </a:rPr>
              <a:t>中共领导下的多党合作和政治协商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755080" y="371628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  <a:ea typeface="黑体"/>
              </a:rPr>
              <a:t>全国人民代表大会及其常务委员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094200" y="422100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国务院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总理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987640" y="479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国家主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12000" y="1916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资产阶级专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3600" y="249228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君主立宪制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君主制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940360" y="30686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两党制</a:t>
            </a:r>
            <a:r>
              <a:rPr b="1" lang="zh-CN" sz="1800" spc="-1" strike="noStrike">
                <a:solidFill>
                  <a:srgbClr val="000099"/>
                </a:solidFill>
                <a:latin typeface="黑体"/>
                <a:ea typeface="黑体"/>
              </a:rPr>
              <a:t>(</a:t>
            </a:r>
            <a:r>
              <a:rPr b="1" lang="zh-CN" sz="1800" spc="-1" strike="noStrike">
                <a:solidFill>
                  <a:srgbClr val="000099"/>
                </a:solidFill>
                <a:latin typeface="黑体"/>
                <a:ea typeface="黑体"/>
              </a:rPr>
              <a:t>保守党、工党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659640" y="364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议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156360" y="4221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内阁（首相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88000" y="4797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国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>
            <a:hlinkClick r:id="" action="ppaction://hlinkshowjump?jump=las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22477" y="10800"/>
                </a:moveTo>
                <a:lnTo>
                  <a:pt x="11971" y="17806"/>
                </a:lnTo>
                <a:lnTo>
                  <a:pt x="11971" y="3794"/>
                </a:lnTo>
                <a:close/>
              </a:path>
              <a:path fill="darken" w="37955" h="21600">
                <a:moveTo>
                  <a:pt x="24322" y="3794"/>
                </a:moveTo>
                <a:lnTo>
                  <a:pt x="24322" y="17806"/>
                </a:lnTo>
                <a:lnTo>
                  <a:pt x="25984" y="17806"/>
                </a:lnTo>
                <a:lnTo>
                  <a:pt x="25984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课堂延伸一：中英两国政治制度比较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1949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年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2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7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2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2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7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2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785440" cy="482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99"/>
                </a:solidFill>
                <a:latin typeface="宋体"/>
              </a:rPr>
              <a:t>    </a:t>
            </a:r>
            <a:r>
              <a:rPr b="1" lang="zh-CN" sz="2900" spc="-1" strike="noStrike">
                <a:solidFill>
                  <a:srgbClr val="000099"/>
                </a:solidFill>
                <a:latin typeface="黑体"/>
                <a:ea typeface="黑体"/>
              </a:rPr>
              <a:t>第二次世界大战期间，英国首相丘吉尔对美国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99"/>
                </a:solidFill>
                <a:latin typeface="黑体"/>
                <a:ea typeface="黑体"/>
              </a:rPr>
              <a:t>总统罗斯福说：“</a:t>
            </a:r>
            <a:r>
              <a:rPr b="1" lang="zh-CN" sz="2900" spc="-1" strike="noStrike" u="sng">
                <a:solidFill>
                  <a:srgbClr val="cc0066"/>
                </a:solidFill>
                <a:uFillTx/>
                <a:latin typeface="黑体"/>
                <a:ea typeface="黑体"/>
              </a:rPr>
              <a:t>总统先生，人们关心的是你在何种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 u="sng">
                <a:solidFill>
                  <a:srgbClr val="cc0066"/>
                </a:solidFill>
                <a:uFillTx/>
                <a:latin typeface="黑体"/>
                <a:ea typeface="黑体"/>
              </a:rPr>
              <a:t>程度上不经国会批准而能采取行动，而你不必为内阁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 u="sng">
                <a:solidFill>
                  <a:srgbClr val="cc0066"/>
                </a:solidFill>
                <a:uFillTx/>
                <a:latin typeface="黑体"/>
                <a:ea typeface="黑体"/>
              </a:rPr>
              <a:t>所困扰。而另外一方面，我从不为内阁所困扰，但我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 u="sng">
                <a:solidFill>
                  <a:srgbClr val="cc0066"/>
                </a:solidFill>
                <a:uFillTx/>
                <a:latin typeface="黑体"/>
                <a:ea typeface="黑体"/>
              </a:rPr>
              <a:t>事事都得与我的内阁商量并获得内阁的支持</a:t>
            </a:r>
            <a:r>
              <a:rPr b="1" lang="zh-CN" sz="2900" spc="-1" strike="noStrike">
                <a:solidFill>
                  <a:srgbClr val="cc0066"/>
                </a:solidFill>
                <a:latin typeface="黑体"/>
                <a:ea typeface="黑体"/>
              </a:rPr>
              <a:t>。</a:t>
            </a:r>
            <a:r>
              <a:rPr b="1" lang="zh-CN" sz="2900" spc="-1" strike="noStrike">
                <a:solidFill>
                  <a:srgbClr val="000099"/>
                </a:solidFill>
                <a:latin typeface="黑体"/>
                <a:ea typeface="黑体"/>
              </a:rPr>
              <a:t>”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99"/>
                </a:solidFill>
                <a:latin typeface="宋体"/>
              </a:rPr>
              <a:t>    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美两国一贯关系密切，文化和传统上更是同根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源，但在政治制度上却有许多相异之处，预习第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，试以</a:t>
            </a:r>
            <a:r>
              <a:rPr b="1" lang="zh-CN" sz="29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“英美政治制度之比较”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题，设计表格来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当今英国、美国的资产阶级民主政治制度的差异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课堂延伸二：当今英美两国政治制度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8172360" y="83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79280" y="134100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900" spc="-1" strike="noStrike">
                <a:solidFill>
                  <a:srgbClr val="000099"/>
                </a:solidFill>
                <a:latin typeface="黑体"/>
                <a:ea typeface="黑体"/>
              </a:rPr>
              <a:t>当今世界上除英国以外</a:t>
            </a:r>
            <a:r>
              <a:rPr b="0" lang="zh-CN" sz="3900" spc="-1" strike="noStrike">
                <a:solidFill>
                  <a:srgbClr val="000099"/>
                </a:solidFill>
                <a:latin typeface="黑体"/>
                <a:ea typeface="黑体"/>
              </a:rPr>
              <a:t>,</a:t>
            </a:r>
            <a:r>
              <a:rPr b="1" lang="zh-CN" sz="3900" spc="-1" strike="noStrike">
                <a:solidFill>
                  <a:srgbClr val="000099"/>
                </a:solidFill>
                <a:latin typeface="黑体"/>
                <a:ea typeface="黑体"/>
              </a:rPr>
              <a:t>还有哪些国家实行君主立宪制</a:t>
            </a:r>
            <a:r>
              <a:rPr b="0" lang="zh-CN" sz="3900" spc="-1" strike="noStrike">
                <a:solidFill>
                  <a:srgbClr val="000099"/>
                </a:solidFill>
                <a:latin typeface="黑体"/>
                <a:ea typeface="黑体"/>
              </a:rPr>
              <a:t>?</a:t>
            </a:r>
            <a:endParaRPr b="0" lang="en-US" sz="3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1152360" cy="100656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4"/>
          <a:stretch/>
        </p:blipFill>
        <p:spPr>
          <a:xfrm>
            <a:off x="826920" y="3141720"/>
            <a:ext cx="7777440" cy="291312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324000" y="2637000"/>
            <a:ext cx="8640720" cy="411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目前世界上的君主立宪制国家一般认为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欧洲：英国、挪威、瑞典、丹麦、荷兰、比利时、卢森堡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西班牙、安道尔、摩纳哥、列支敦士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亚洲：日本、柬埔寨、泰国、马来西亚、尼泊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非洲：毛里求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洲：加拿大、巴哈马、安提瓜和巴布达、巴巴多斯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伯利兹、圣克里斯多福与尼维斯、圣卢西亚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圣文森特和格林纳丁斯、格林纳达、牙买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大洋洲：澳大利亚、新西兰、巴布亚新几内亚、图瓦卢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罗门群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763640" y="476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Arial Black"/>
                <a:ea typeface="楷体_GB2312"/>
              </a:rPr>
              <a:t>你知道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5"/>
          <a:stretch/>
        </p:blipFill>
        <p:spPr>
          <a:xfrm>
            <a:off x="7667640" y="333360"/>
            <a:ext cx="1247760" cy="1828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89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2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Comic Sans MS"/>
              </a:rPr>
              <a:t>“</a:t>
            </a:r>
            <a:r>
              <a:rPr b="0" lang="zh-CN" sz="4400" spc="-1" strike="noStrike">
                <a:solidFill>
                  <a:srgbClr val="0033cc"/>
                </a:solidFill>
                <a:latin typeface="Comic Sans MS"/>
              </a:rPr>
              <a:t>光荣革命”的意义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光荣革命”实现了资产阶级掌握政权的愿望，它推翻了封建专制的君主制，以后 确立了君主立宪制，为英国资本主义经济发展和资本主义政治、经济制度的建立开辟了道路。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">
            <a:hlinkClick r:id="rId2" action="ppaction://hlinksldjump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3631" y="10800"/>
                </a:moveTo>
                <a:lnTo>
                  <a:pt x="24136" y="3794"/>
                </a:lnTo>
                <a:lnTo>
                  <a:pt x="24136" y="17806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11786" y="3794"/>
                </a:lnTo>
                <a:lnTo>
                  <a:pt x="11786" y="17806"/>
                </a:lnTo>
                <a:lnTo>
                  <a:pt x="1012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42920" y="5484960"/>
            <a:ext cx="26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伊丽莎白一世 </a:t>
            </a:r>
            <a:br>
              <a:rPr sz="2800"/>
            </a:b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Elizabeth Ⅰ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(1533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～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160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24360" y="5484960"/>
            <a:ext cx="27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伊丽莎白二世 </a:t>
            </a:r>
            <a:br>
              <a:rPr sz="2800"/>
            </a:b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Elizabeth II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(1926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～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72280" y="1335240"/>
            <a:ext cx="3363840" cy="40384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755640" y="1268280"/>
            <a:ext cx="3306600" cy="4104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55640" y="5013360"/>
            <a:ext cx="3311640" cy="396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铎王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72280" y="4975200"/>
            <a:ext cx="3376440" cy="397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温莎王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黑体"/>
              </a:rPr>
              <a:t>课后查找资料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同样是女王，两位伊丽莎白女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权力大小上有多大的差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4284720" y="2565360"/>
            <a:ext cx="971640" cy="1268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33cc"/>
                </a:solidFill>
                <a:uFillTx/>
                <a:latin typeface="Comic Sans MS"/>
              </a:rPr>
              <a:t>英国资产阶级革命的背景：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Comic Sans MS"/>
              </a:rPr>
              <a:t>、英国资本主义的发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新航路开辟后，英国处于大西洋航运的中心线上，海外活动更加便利。英国积极开拓海外贸易，资本主义兴起和发展起来。在资本主义发展的过程中，资产阶级和新贵族的实力不断加强，他们同代表旧的生产关系的封建专制制度的矛盾越来越尖锐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、斯图亚特王朝的专制统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看书：统治者、专制表现、影响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>
            <a:hlinkClick r:id="rId2" action="ppaction://hlinksldjump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3631" y="10800"/>
                </a:moveTo>
                <a:lnTo>
                  <a:pt x="24136" y="3794"/>
                </a:lnTo>
                <a:lnTo>
                  <a:pt x="24136" y="17806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11786" y="3794"/>
                </a:lnTo>
                <a:lnTo>
                  <a:pt x="11786" y="17806"/>
                </a:lnTo>
                <a:lnTo>
                  <a:pt x="1012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46288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三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单元  近代西方资本主义政治制度的确立与发展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         第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课 英国君主立宪制的建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908000" y="3141720"/>
            <a:ext cx="5783400" cy="2881080"/>
            <a:chOff x="1908000" y="3141720"/>
            <a:chExt cx="5783400" cy="2881080"/>
          </a:xfrm>
        </p:grpSpPr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1908000" y="3141720"/>
              <a:ext cx="2360520" cy="28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5148000" y="3141720"/>
              <a:ext cx="2543400" cy="28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"/>
          <p:cNvSpPr/>
          <p:nvPr/>
        </p:nvSpPr>
        <p:spPr>
          <a:xfrm>
            <a:off x="250920" y="1628640"/>
            <a:ext cx="868212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stablish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itutional Monarchy System in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95280" y="620640"/>
            <a:ext cx="352728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问题探究一：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56" name=""/>
          <p:cNvSpPr/>
          <p:nvPr/>
        </p:nvSpPr>
        <p:spPr>
          <a:xfrm>
            <a:off x="3851280" y="4762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君主立宪制的含义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0" y="0"/>
            <a:ext cx="9144000" cy="4739040"/>
            <a:chOff x="0" y="0"/>
            <a:chExt cx="9144000" cy="4739040"/>
          </a:xfrm>
        </p:grpSpPr>
        <p:sp>
          <p:nvSpPr>
            <p:cNvPr id="258" name=""/>
            <p:cNvSpPr/>
            <p:nvPr/>
          </p:nvSpPr>
          <p:spPr>
            <a:xfrm>
              <a:off x="0" y="0"/>
              <a:ext cx="9144000" cy="4739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材料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                  </a:t>
              </a: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新华网伦敦</a:t>
              </a: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2001</a:t>
              </a: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年</a:t>
              </a: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6</a:t>
              </a: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月</a:t>
              </a: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8</a:t>
              </a: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日电</a:t>
              </a:r>
              <a:r>
                <a:rPr b="1" lang="zh-CN" sz="2800" spc="-1" strike="noStrike">
                  <a:solidFill>
                    <a:srgbClr val="3333cc"/>
                  </a:solidFill>
                  <a:latin typeface="华文宋体"/>
                  <a:ea typeface="华文宋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根据英国官方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8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日公布的选举结果，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宋体"/>
                  <a:ea typeface="华文宋体"/>
                </a:rPr>
                <a:t>执政党工党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在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7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日举行的全国大选中以绝对优势获胜，工党领袖布莱尔连任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宋体"/>
                  <a:ea typeface="华文宋体"/>
                </a:rPr>
                <a:t>英国首相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8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日上午，布莱尔前往白金汉宫拜见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宋体"/>
                  <a:ea typeface="华文宋体"/>
                </a:rPr>
                <a:t>女王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，并接受女王对他组建新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宋体"/>
                  <a:ea typeface="华文宋体"/>
                </a:rPr>
                <a:t>内阁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的授权。布莱尔将在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8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日晚些时候宣布新内阁成员名单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本次大选共有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3294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名候选人参加英国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宋体"/>
                  <a:ea typeface="华文宋体"/>
                </a:rPr>
                <a:t>议会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下院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659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个议席的角逐。在目前已公布的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640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个选区中，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宋体"/>
                  <a:ea typeface="华文宋体"/>
                </a:rPr>
                <a:t>工党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获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413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个议席，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宋体"/>
                  <a:ea typeface="华文宋体"/>
                </a:rPr>
                <a:t>保守党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获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165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个议席，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宋体"/>
                  <a:ea typeface="华文宋体"/>
                </a:rPr>
                <a:t>自由党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获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52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个议席。保守党领袖黑格承认竞选失败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" descr="布莱尔赢得英国大选(组图)"/>
            <p:cNvPicPr/>
            <p:nvPr/>
          </p:nvPicPr>
          <p:blipFill>
            <a:blip r:embed="rId1"/>
            <a:stretch/>
          </p:blipFill>
          <p:spPr>
            <a:xfrm>
              <a:off x="250920" y="189000"/>
              <a:ext cx="1873080" cy="126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"/>
          <p:cNvSpPr/>
          <p:nvPr/>
        </p:nvSpPr>
        <p:spPr>
          <a:xfrm>
            <a:off x="6300720" y="1916280"/>
            <a:ext cx="2232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0920" y="2349360"/>
            <a:ext cx="864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9280" y="2852640"/>
            <a:ext cx="176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84360" y="3429000"/>
            <a:ext cx="640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3860640"/>
            <a:ext cx="37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11280" y="4869000"/>
            <a:ext cx="6337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0920" y="5300640"/>
            <a:ext cx="1871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rcRect l="19049" t="0" r="23811" b="17774"/>
          <a:stretch/>
        </p:blipFill>
        <p:spPr>
          <a:xfrm>
            <a:off x="250920" y="260280"/>
            <a:ext cx="1873080" cy="12668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468360" y="1628640"/>
            <a:ext cx="842472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英国首相布莱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在最后一次前往英国议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接受议员提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后，向英国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女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伊丽莎白二世正式递交辞呈，从而宣告结束自己长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的首相生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英国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执政党工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任领袖布朗２７日下午应英国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女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伊丽莎白二世的邀请前往白金汉宫，接受女王授权组建新一届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内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并从女王手中接受御玺，正式就任英国首相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43280" y="620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2007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27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日电 新华网消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2708280"/>
            <a:ext cx="2232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859280" y="278136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58920" y="3860640"/>
            <a:ext cx="172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101080" y="3860640"/>
            <a:ext cx="6476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588000" y="4292640"/>
            <a:ext cx="2232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900000" y="4653000"/>
            <a:ext cx="251964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3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50920" y="260280"/>
            <a:ext cx="316872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女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Qu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2852640"/>
            <a:ext cx="316872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内阁首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Prime  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0920" y="4076640"/>
            <a:ext cx="316872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议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5373720"/>
            <a:ext cx="316872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工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Labor 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1484280"/>
            <a:ext cx="316872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内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Cabi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084720" y="476280"/>
            <a:ext cx="2808360" cy="5839200"/>
            <a:chOff x="6084720" y="476280"/>
            <a:chExt cx="2808360" cy="5839200"/>
          </a:xfrm>
        </p:grpSpPr>
        <p:sp>
          <p:nvSpPr>
            <p:cNvPr id="282" name=""/>
            <p:cNvSpPr/>
            <p:nvPr/>
          </p:nvSpPr>
          <p:spPr>
            <a:xfrm>
              <a:off x="6084720" y="3213000"/>
              <a:ext cx="277812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Arial"/>
                  <a:ea typeface="黑体"/>
                </a:rPr>
                <a:t>国家元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84720" y="5734080"/>
              <a:ext cx="280836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Arial"/>
                  <a:ea typeface="黑体"/>
                </a:rPr>
                <a:t>国家权力中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84720" y="476280"/>
              <a:ext cx="280692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Arial"/>
                  <a:ea typeface="黑体"/>
                </a:rPr>
                <a:t>政府首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84720" y="1844640"/>
              <a:ext cx="277812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Arial"/>
                  <a:ea typeface="黑体"/>
                </a:rPr>
                <a:t>执政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84720" y="4508640"/>
              <a:ext cx="277812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Arial"/>
                  <a:ea typeface="黑体"/>
                </a:rPr>
                <a:t>国家政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V="1">
            <a:off x="3492360" y="2204640"/>
            <a:ext cx="2519640" cy="374508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64000" y="4653000"/>
            <a:ext cx="2448000" cy="144000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492360" y="765000"/>
            <a:ext cx="2519640" cy="259272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92360" y="836640"/>
            <a:ext cx="2519640" cy="266364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92360" y="2133720"/>
            <a:ext cx="2519640" cy="266364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5373720"/>
            <a:ext cx="9144000" cy="1484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920" y="558972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他（它）们是如何产生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别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哪些权力或者职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79280" y="404640"/>
            <a:ext cx="3528720" cy="4740840"/>
            <a:chOff x="179280" y="404640"/>
            <a:chExt cx="3528720" cy="4740840"/>
          </a:xfrm>
        </p:grpSpPr>
        <p:sp>
          <p:nvSpPr>
            <p:cNvPr id="295" name=""/>
            <p:cNvSpPr/>
            <p:nvPr/>
          </p:nvSpPr>
          <p:spPr>
            <a:xfrm>
              <a:off x="179280" y="2852640"/>
              <a:ext cx="3474000" cy="106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内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Cabin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9280" y="404640"/>
              <a:ext cx="3449160" cy="106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女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Queen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9280" y="1628640"/>
              <a:ext cx="3474000" cy="106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议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Parliam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9280" y="4076640"/>
              <a:ext cx="3528720" cy="106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内阁首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Prime minis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659640" y="404640"/>
            <a:ext cx="2160360" cy="4751280"/>
            <a:chOff x="6659640" y="404640"/>
            <a:chExt cx="2160360" cy="475128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6659640" y="2033640"/>
              <a:ext cx="2160360" cy="1425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301" name="" descr=""/>
            <p:cNvPicPr/>
            <p:nvPr/>
          </p:nvPicPr>
          <p:blipFill>
            <a:blip r:embed="rId3"/>
            <a:stretch/>
          </p:blipFill>
          <p:spPr>
            <a:xfrm>
              <a:off x="6659640" y="404640"/>
              <a:ext cx="2123640" cy="1451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302" name="" descr=""/>
            <p:cNvPicPr/>
            <p:nvPr/>
          </p:nvPicPr>
          <p:blipFill>
            <a:blip r:embed="rId4"/>
            <a:stretch/>
          </p:blipFill>
          <p:spPr>
            <a:xfrm>
              <a:off x="6659640" y="3664440"/>
              <a:ext cx="2160360" cy="14914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303" name=""/>
          <p:cNvGrpSpPr/>
          <p:nvPr/>
        </p:nvGrpSpPr>
        <p:grpSpPr>
          <a:xfrm>
            <a:off x="3780000" y="692280"/>
            <a:ext cx="2736720" cy="4181760"/>
            <a:chOff x="3780000" y="692280"/>
            <a:chExt cx="2736720" cy="4181760"/>
          </a:xfrm>
        </p:grpSpPr>
        <p:sp>
          <p:nvSpPr>
            <p:cNvPr id="304" name=""/>
            <p:cNvSpPr/>
            <p:nvPr/>
          </p:nvSpPr>
          <p:spPr>
            <a:xfrm>
              <a:off x="4068720" y="4292640"/>
              <a:ext cx="208728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政府首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68720" y="3141720"/>
              <a:ext cx="194256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国家政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80000" y="1989000"/>
              <a:ext cx="273672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国家权力中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68720" y="692280"/>
              <a:ext cx="194256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国家元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7524720" y="5445000"/>
            <a:ext cx="1619280" cy="1413000"/>
            <a:chOff x="7524720" y="5445000"/>
            <a:chExt cx="1619280" cy="1413000"/>
          </a:xfrm>
        </p:grpSpPr>
        <p:pic>
          <p:nvPicPr>
            <p:cNvPr id="309" name="" descr=""/>
            <p:cNvPicPr/>
            <p:nvPr/>
          </p:nvPicPr>
          <p:blipFill>
            <a:blip r:embed="rId5"/>
            <a:stretch/>
          </p:blipFill>
          <p:spPr>
            <a:xfrm>
              <a:off x="7524720" y="5445000"/>
              <a:ext cx="1619280" cy="14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 txBox="1"/>
            <p:nvPr/>
          </p:nvSpPr>
          <p:spPr>
            <a:xfrm>
              <a:off x="7763760" y="5548680"/>
              <a:ext cx="1198800" cy="418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ccffff"/>
                    </a:solidFill>
                    <a:miter/>
                  </a:ln>
                  <a:solidFill>
                    <a:srgbClr val="00800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思考</a:t>
              </a:r>
              <a:endParaRPr b="1" lang="en-US" sz="18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07:05:20Z</dcterms:created>
  <dc:creator>ljc</dc:creator>
  <dc:description/>
  <dc:language>en-US</dc:language>
  <cp:lastModifiedBy>微软中国</cp:lastModifiedBy>
  <dcterms:modified xsi:type="dcterms:W3CDTF">2007-09-05T01:54:05Z</dcterms:modified>
  <cp:revision>5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