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5FB1-0F33-433E-9D52-0D5518FC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2984-6F21-41A9-9A0C-37B68C13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DFF9-A686-4482-94AC-145D2B76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D7D7-4061-43C5-83D9-66779D92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C872-E8EE-46C9-AA42-A6385687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4A66-7224-46F5-B350-17C868E7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5019-E47B-4EF2-9D4B-720AAA70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51D9-8F49-46C5-90DA-7A41928F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DBEC-CA38-46B1-AE84-BADF2420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8A2A-3AA6-42C2-9992-B224D60C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11F8-3254-47E5-8F6A-5B68217D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8F00-A389-4BBA-8853-8B6CDBF4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032D-359C-4F2F-82E6-DF1B2425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4661-35C3-43DF-B7E6-CB18A097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F56A-EB94-4757-BC6A-B707C106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D450-4901-4F06-BEB6-EB6F253E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98F9-211A-475B-88FF-5BDEC786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4DB1-165D-433F-8504-D109F69E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3537-FBF5-4A2E-A982-231EB0B1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1CE2-FE08-47CE-8EBA-D808F8F0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D637-896E-4A1E-9B87-59045E43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C26F-74B6-4153-86D8-18529DFE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7CC2-9093-4E05-A9F2-389DF9E8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86D1-6DE4-4A1B-A26E-79749901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411B-746B-4898-9B9A-58BB3176CB0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DF10-30EC-4DA0-A7F7-4FDEE209DE3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1447920"/>
            <a:ext cx="7239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新课程 • 新教材 • 新教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ahoma"/>
                <a:ea typeface="楷体_GB2312"/>
              </a:rPr>
              <a:t>牛学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ahoma"/>
                <a:ea typeface="楷体_GB2312"/>
              </a:rPr>
              <a:t>浙江省教育厅教研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906480"/>
            <a:ext cx="7993080" cy="846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fff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74"/>
                </a:solidFill>
                <a:latin typeface="Tahoma"/>
                <a:ea typeface="黑体"/>
              </a:rPr>
              <a:t>大众传媒的影响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5629320" y="571500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执教： 牛学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BD06662_" descr=""/>
          <p:cNvPicPr/>
          <p:nvPr/>
        </p:nvPicPr>
        <p:blipFill>
          <a:blip r:embed="rId2"/>
          <a:stretch/>
        </p:blipFill>
        <p:spPr>
          <a:xfrm>
            <a:off x="685800" y="4800600"/>
            <a:ext cx="17938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5280" y="1072800"/>
            <a:ext cx="74628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  <a:ea typeface="幼圆"/>
              </a:rPr>
              <a:t>学习目标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09680" y="2017800"/>
            <a:ext cx="62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通过联系阅读，咱们需了解不同时代的传媒及影响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通过阅读讨论，咱们应学会全面、辨证地看待传媒的影响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在讨论辩论过程中，咱们要提高自己的综合能力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反思：目标出示时间短，解释也不够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2209680"/>
            <a:ext cx="1523880" cy="1600200"/>
          </a:xfrm>
          <a:prstGeom prst="cloudCallout">
            <a:avLst>
              <a:gd name="adj1" fmla="val -19060"/>
              <a:gd name="adj2" fmla="val 4712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是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9480" y="3886200"/>
            <a:ext cx="1013040" cy="1569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幼圆"/>
                <a:ea typeface="幼圆"/>
              </a:rPr>
              <a:t>温情提示：联系阅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看书时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边看书边联系以前学过的知识和自己身边实际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5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然后，提出一个能反映自己愿望和水平的问题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要解释一下）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BS00559_" descr=""/>
          <p:cNvPicPr/>
          <p:nvPr/>
        </p:nvPicPr>
        <p:blipFill>
          <a:blip r:embed="rId1"/>
          <a:stretch/>
        </p:blipFill>
        <p:spPr>
          <a:xfrm>
            <a:off x="4191120" y="4648320"/>
            <a:ext cx="3581280" cy="1660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幼圆"/>
                <a:ea typeface="幼圆"/>
              </a:rPr>
              <a:t>温情提示：主动问答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73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把自己提出的问题在组内进行交流、讨论，并加以解决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之后，把最能代表你组愿望和水平的问题提出来由其他组回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活动开始前，先民主推选组长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给本组起一个响亮的名字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（反思：应参与讨论，并适当点拨；小组的名字应反复提及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BD06517_" descr=""/>
          <p:cNvPicPr/>
          <p:nvPr/>
        </p:nvPicPr>
        <p:blipFill>
          <a:blip r:embed="rId1"/>
          <a:stretch/>
        </p:blipFill>
        <p:spPr>
          <a:xfrm>
            <a:off x="6324480" y="4876920"/>
            <a:ext cx="2210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幼圆"/>
                <a:ea typeface="幼圆"/>
              </a:rPr>
              <a:t>温情提示：自主讨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辩论规则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第一、各方可以推荐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位能说会道的同学为主辩手，其他同学递建议条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第二、如果一方发言后，另一方长达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秒种没有发言，则判另一方为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现在给大家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分钟准备时间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（反思：辩论时间短，最好由学生主持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应有点评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BD04972_" descr=""/>
          <p:cNvPicPr/>
          <p:nvPr/>
        </p:nvPicPr>
        <p:blipFill>
          <a:blip r:embed="rId1"/>
          <a:stretch/>
        </p:blipFill>
        <p:spPr>
          <a:xfrm>
            <a:off x="5486400" y="4572000"/>
            <a:ext cx="281952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4674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  <a:ea typeface="幼圆"/>
              </a:rPr>
              <a:t>自评互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自我评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本节课，我最大的收获是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_____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本节课，我感受最深是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本节课，我最大的遗憾是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______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互相评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本节课发言最积极的同学是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本节课论辩水平最高的同学是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与以前比，本节课进步最大的同学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Tahoma"/>
              </a:rPr>
              <a:t>（反思：由学生自由发言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172200" y="3048120"/>
            <a:ext cx="1995480" cy="3259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791320" y="1143000"/>
            <a:ext cx="1981080" cy="1523880"/>
          </a:xfrm>
          <a:prstGeom prst="cloudCallout">
            <a:avLst>
              <a:gd name="adj1" fmla="val 35736"/>
              <a:gd name="adj2" fmla="val 9718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嘿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让我想想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课后反思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行为不幽默，语言不连贯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没有反映出知识的渊博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宏观调控能力不强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提出的问题过于笼统，针对性不强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应写详案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辩论赛应做好充分准备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666880" y="289548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66"/>
                </a:solidFill>
                <a:latin typeface="Tahoma"/>
                <a:ea typeface="隶书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黑体"/>
              </a:rPr>
              <a:t>新课程“新”在哪里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课程目标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-----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三维一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课程内容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-----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行为化陈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课程标准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-----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是“纲”不“刚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  <a:ea typeface="黑体"/>
              </a:rPr>
              <a:t>知识与技能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839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知识即经验，是结构性知识（概念、原理、方法论等）和非结构性知识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如个人独特生活经历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的统一。结构性知识又分为陈述性知识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是什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、程序性知识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为什么、怎么办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和策略性知识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如何学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三类。技能即动作方式，就是在特定目标指示下的操作顺序，它可分动作技能和智力技能两种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知识和技能目标要求“了解人类生活的自然环境差异、不同区域的人文特征、历史变迁及其各种问题；理解人们政治、经济、文化生活的丰富内涵，以及人的发展与自然、社会的相互关系；知道人类物质文明、精神文明与制度文明发展的一般过程和基本趋势；会用多种方法和现代信息技术收集、保存、处理和评价社会信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  <a:ea typeface="黑体"/>
              </a:rPr>
              <a:t>过程与方法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过程与方法是指了解科学探究的过程和方法，学会发现、思考和解决问题的方法，学会学习，形成创新精神和实践能力等。它倡导以活动带知识和技能的方法，把知识和能力紧密结合起来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过程与方法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目标要求“尝试用历史的、辩证的眼光观察、评价现实问题，提高判断重大是非的能力；思考优秀的民族传统文化与外国文化的创造过程，培养当代青年应有的创新能力；体会在社会生活中个人与集体的关系，学会恰当展示自己、关爱他人、与人合作；尝试从不同角度、综合多种知识探究社会问题，提高参与社会实践和自主学习的能力”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  <a:ea typeface="黑体"/>
              </a:rPr>
              <a:t>情感态度与价值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情感态度价值观涵盖的内容更加广泛，包括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正确面对人生和社会发展的各种问题，逐步树立集体主义、爱国主义和社会主义思想，初步形成科学的世界观、人生观和价值观，成为有责任感和使命感的公民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情感态度价值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目标要求“关注中华文明的发展历程，树立为实现中华民族伟大复兴而奋斗的志向，以及建设有中国特色社会主义的共同理想；关心现代社会发展的需要，形成崇尚科学的态度和可持续发展的观念，以及终身学习的愿望；热心社会公益活动，依法行使公民权利和义务，树立民主与法制观念，增强社会责任感”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86868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课程内容的呈现方式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行为化陈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化是指对有关内容目标的操作提出行为要求和指导，以操作行为的实施与否作为衡量的标准。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收入和支出的含义”可行为化为“根据个人家庭理财经验（行为条件），领会（行为动词）合理安排收入、支出的意义（表现程度）”；“民主政治的涵义”可行为化为“讨论（行为动词）本地特别关注的问题（行为条件），体验（行为动词）公民的主动参与对推进民主政治建设的重要作用（表现程度）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见，行为目标陈述有四个要素，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主体、行为动词、行为条件和表现程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主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学生而不是教师，采用“使学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、“培养学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、“提高学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等方式是不符合陈述要求的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动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用于描述学生所形成的可观察、可测量的具体行为，不能用诸如“培养、提高、掌握、灵活运用”等笼统、模糊的术语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指影响学生产生学习结果的特定的限制或范围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现程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学生学习之后预期应有的表现内容，并以此评估、测量学习过程或结果所达到的程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黑体"/>
              </a:rPr>
              <a:t>新教材“新”在哪里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2017800"/>
            <a:ext cx="796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先有标准后有教材，“一标多本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教材（教科书）是课程资源，不是“圣经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教科书人人可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人教版《历史与社会》教材的“新”特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黑体"/>
              </a:rPr>
              <a:t>新教法“新”在哪里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以学生的发展为本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（知识什么时候才有用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以“学”定“教”而不是以“考”定“教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用教科书教”而不是“教教科书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要教学模式但不能“模式化”（课题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最高境界：“无招胜有招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95280" y="1876320"/>
            <a:ext cx="7239240" cy="36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联系阅读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动问答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主讨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评互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人入胜                   精导妙引                        结尾无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学习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案例：《大众传媒的影响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981080" y="251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25146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3200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2514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0100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980720" y="39625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98108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010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791320" y="3886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289548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819520" y="266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267080" y="266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7913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315200" y="266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876920" y="28954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2193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课题：《综合性学习的课堂教学模式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981080" y="25146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2:39:38Z</dcterms:created>
  <dc:creator>方红峰</dc:creator>
  <dc:description/>
  <dc:language>en-US</dc:language>
  <cp:lastModifiedBy>nxw</cp:lastModifiedBy>
  <dcterms:modified xsi:type="dcterms:W3CDTF">2003-12-26T01:57:03Z</dcterms:modified>
  <cp:revision>28</cp:revision>
  <dc:subject/>
  <dc:title>  《科学》（7~9）年级课程标准学习辅导</dc:title>
</cp:coreProperties>
</file>