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07E-27E2-4E29-B50B-43AB5435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8B8-9E8C-4CDA-A40D-B0A8CAE8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2FD-FAD2-4276-83E2-7C83D3B3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AF5-4A8A-40AF-9778-328C55B1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428-5321-45C1-A34A-28CA3E7E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D99-CCF1-48E4-A39C-195500AF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8D9-A7B7-4F6D-BFDA-C8F54032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2B9-BC1B-46A4-BD94-CDA19264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7D4-3031-493E-9523-8B125B31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D49-4F6A-4DA6-AFE5-FA8B26C0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FFC-36F9-4FB4-9999-1B8918CB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41EF-D83D-4328-8FB9-A014CCCC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F6A4-F591-427C-AA19-EC4BFA1891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</a:t>
            </a:r>
            <a:r>
              <a:rPr b="1" lang="zh-CN" sz="12000" spc="-1" strike="noStrike">
                <a:solidFill>
                  <a:srgbClr val="ff0066"/>
                </a:solidFill>
                <a:latin typeface="华文行楷"/>
                <a:ea typeface="华文行楷"/>
              </a:rPr>
              <a:t>走进社会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历史与社会》七年级下册第六单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502920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临安锦城四中   金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21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四、本单元教学建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274320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▲ </a:t>
            </a:r>
            <a:r>
              <a:rPr b="1" lang="zh-CN" sz="6600" spc="-1" strike="noStrike">
                <a:solidFill>
                  <a:srgbClr val="3333cc"/>
                </a:solidFill>
                <a:latin typeface="华文行楷"/>
                <a:ea typeface="华文行楷"/>
              </a:rPr>
              <a:t>联系生活教学策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411480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▲ 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情感教学策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144792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▲  </a:t>
            </a:r>
            <a:r>
              <a:rPr b="1" lang="zh-CN" sz="6600" spc="-1" strike="noStrike">
                <a:solidFill>
                  <a:srgbClr val="3333cc"/>
                </a:solidFill>
                <a:latin typeface="华文行楷"/>
                <a:ea typeface="华文行楷"/>
              </a:rPr>
              <a:t>根据课型选择教法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762120"/>
            <a:ext cx="830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我领着学生走进社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236232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学生带着我融入社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396252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师生共鸣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345600" y="685800"/>
            <a:ext cx="16426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们生活的世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17080" y="457200"/>
            <a:ext cx="18262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个人和社会生活的时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142640" y="160020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281952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57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533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1219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活在社区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990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类共同生活的世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160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华各族人民的家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2286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各具特色的区域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社会生活的变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132920" y="3581280"/>
            <a:ext cx="6182280" cy="2593440"/>
            <a:chOff x="1132920" y="3581280"/>
            <a:chExt cx="6182280" cy="2593440"/>
          </a:xfrm>
        </p:grpSpPr>
        <p:sp>
          <p:nvSpPr>
            <p:cNvPr id="60" name=""/>
            <p:cNvSpPr/>
            <p:nvPr/>
          </p:nvSpPr>
          <p:spPr>
            <a:xfrm>
              <a:off x="1132920" y="3581280"/>
              <a:ext cx="182628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Times New Roman"/>
                  <a:ea typeface="华文行楷"/>
                </a:rPr>
                <a:t>个人和社会生活的领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7180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5268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4572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52680" y="5257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52680" y="388620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52680" y="5943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62520" y="365760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走进社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86200" y="43434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生活的规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6200" y="50292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走向富足的文明生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86200" y="57150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丰富多彩的精神生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971800" y="1752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477120" y="380880"/>
            <a:ext cx="1844640" cy="2743200"/>
            <a:chOff x="6477120" y="380880"/>
            <a:chExt cx="1844640" cy="2743200"/>
          </a:xfrm>
        </p:grpSpPr>
        <p:sp>
          <p:nvSpPr>
            <p:cNvPr id="73" name=""/>
            <p:cNvSpPr/>
            <p:nvPr/>
          </p:nvSpPr>
          <p:spPr>
            <a:xfrm>
              <a:off x="6705720" y="457200"/>
              <a:ext cx="9903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477120" y="1905120"/>
              <a:ext cx="12189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00760" y="380880"/>
              <a:ext cx="1521000" cy="26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66"/>
                  </a:solidFill>
                  <a:latin typeface="Times New Roman"/>
                  <a:ea typeface="华文行楷"/>
                </a:rPr>
                <a:t>人地关系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477120" y="3200400"/>
            <a:ext cx="1784160" cy="3657600"/>
            <a:chOff x="6477120" y="3200400"/>
            <a:chExt cx="1784160" cy="3657600"/>
          </a:xfrm>
        </p:grpSpPr>
        <p:sp>
          <p:nvSpPr>
            <p:cNvPr id="77" name=""/>
            <p:cNvSpPr/>
            <p:nvPr/>
          </p:nvSpPr>
          <p:spPr>
            <a:xfrm>
              <a:off x="6477120" y="3962520"/>
              <a:ext cx="1143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705720" y="4876920"/>
              <a:ext cx="9144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61960" y="3200400"/>
              <a:ext cx="139932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Times New Roman"/>
                  <a:ea typeface="华文行楷"/>
                </a:rPr>
                <a:t>人与社会关系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09680" y="0"/>
            <a:ext cx="533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主 要 内 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3716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● 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教材内容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51460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●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教材结构分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487692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●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单元教学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36576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●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我对本单元教学后的感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3049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、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本单元 教材内容特点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523880"/>
            <a:ext cx="609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▲ </a:t>
            </a:r>
            <a:r>
              <a:rPr b="0" lang="zh-CN" sz="6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体现</a:t>
            </a:r>
            <a:r>
              <a:rPr b="0" lang="zh-CN" sz="6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现实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895480"/>
            <a:ext cx="59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▲ </a:t>
            </a:r>
            <a:r>
              <a:rPr b="0" lang="zh-CN" sz="6600" spc="-1" strike="noStrike">
                <a:solidFill>
                  <a:srgbClr val="3333cc"/>
                </a:solidFill>
                <a:latin typeface="华文行楷"/>
                <a:ea typeface="华文行楷"/>
              </a:rPr>
              <a:t>体现</a:t>
            </a:r>
            <a:r>
              <a:rPr b="0" lang="zh-CN" sz="6600" spc="-1" strike="noStrike">
                <a:solidFill>
                  <a:srgbClr val="ff0066"/>
                </a:solidFill>
                <a:latin typeface="华文行楷"/>
                <a:ea typeface="华文行楷"/>
              </a:rPr>
              <a:t>情感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4191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▲</a:t>
            </a:r>
            <a:r>
              <a:rPr b="0" lang="zh-CN" sz="7200" spc="-1" strike="noStrike">
                <a:solidFill>
                  <a:srgbClr val="3333cc"/>
                </a:solidFill>
                <a:latin typeface="华文行楷"/>
                <a:ea typeface="华文行楷"/>
              </a:rPr>
              <a:t> </a:t>
            </a:r>
            <a:r>
              <a:rPr b="0" lang="zh-CN" sz="6600" spc="-1" strike="noStrike">
                <a:solidFill>
                  <a:srgbClr val="3333cc"/>
                </a:solidFill>
                <a:latin typeface="华文行楷"/>
                <a:ea typeface="华文行楷"/>
              </a:rPr>
              <a:t>体现</a:t>
            </a:r>
            <a:r>
              <a:rPr b="0" lang="zh-CN" sz="6600" spc="-1" strike="noStrike">
                <a:solidFill>
                  <a:srgbClr val="ff0066"/>
                </a:solidFill>
                <a:latin typeface="华文行楷"/>
                <a:ea typeface="华文行楷"/>
              </a:rPr>
              <a:t>价值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2286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二、本单元教材结构分析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2438280"/>
            <a:ext cx="1600200" cy="1800720"/>
            <a:chOff x="304920" y="2438280"/>
            <a:chExt cx="1600200" cy="1800720"/>
          </a:xfrm>
        </p:grpSpPr>
        <p:sp>
          <p:nvSpPr>
            <p:cNvPr id="91" name=""/>
            <p:cNvSpPr/>
            <p:nvPr/>
          </p:nvSpPr>
          <p:spPr>
            <a:xfrm>
              <a:off x="304920" y="3047760"/>
              <a:ext cx="16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Times New Roman"/>
                  <a:ea typeface="华文行楷"/>
                </a:rPr>
                <a:t>个人生活在社会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43000" y="2438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286000" y="2362320"/>
            <a:ext cx="1752480" cy="1877040"/>
            <a:chOff x="2286000" y="2362320"/>
            <a:chExt cx="1752480" cy="1877040"/>
          </a:xfrm>
        </p:grpSpPr>
        <p:sp>
          <p:nvSpPr>
            <p:cNvPr id="94" name=""/>
            <p:cNvSpPr/>
            <p:nvPr/>
          </p:nvSpPr>
          <p:spPr>
            <a:xfrm>
              <a:off x="2286000" y="304812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Times New Roman"/>
                  <a:ea typeface="华文行楷"/>
                </a:rPr>
                <a:t>社会是我们共同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00400" y="23623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038480" y="2362320"/>
            <a:ext cx="2895840" cy="1953000"/>
            <a:chOff x="4038480" y="2362320"/>
            <a:chExt cx="2895840" cy="1953000"/>
          </a:xfrm>
        </p:grpSpPr>
        <p:sp>
          <p:nvSpPr>
            <p:cNvPr id="97" name=""/>
            <p:cNvSpPr/>
            <p:nvPr/>
          </p:nvSpPr>
          <p:spPr>
            <a:xfrm>
              <a:off x="4038480" y="3124080"/>
              <a:ext cx="289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我们在 社会舞台上扮演不同的角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8148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629400" y="2362320"/>
            <a:ext cx="2514600" cy="1953000"/>
            <a:chOff x="6629400" y="2362320"/>
            <a:chExt cx="2514600" cy="1953000"/>
          </a:xfrm>
        </p:grpSpPr>
        <p:sp>
          <p:nvSpPr>
            <p:cNvPr id="100" name=""/>
            <p:cNvSpPr/>
            <p:nvPr/>
          </p:nvSpPr>
          <p:spPr>
            <a:xfrm>
              <a:off x="6629400" y="3124080"/>
              <a:ext cx="251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Times New Roman"/>
                  <a:ea typeface="华文行楷"/>
                </a:rPr>
                <a:t>我们在社会舞台上受传媒影响最大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14400" y="4921200"/>
            <a:ext cx="6858000" cy="1937520"/>
            <a:chOff x="914400" y="4921200"/>
            <a:chExt cx="6858000" cy="1937520"/>
          </a:xfrm>
        </p:grpSpPr>
        <p:sp>
          <p:nvSpPr>
            <p:cNvPr id="103" name=""/>
            <p:cNvSpPr/>
            <p:nvPr/>
          </p:nvSpPr>
          <p:spPr>
            <a:xfrm>
              <a:off x="7772400" y="4921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14400" y="55306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14400" y="4921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4921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29200" y="4921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14800" y="5530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5759280"/>
              <a:ext cx="4191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66"/>
                  </a:solidFill>
                  <a:latin typeface="Times New Roman"/>
                  <a:ea typeface="华文行楷"/>
                </a:rPr>
                <a:t>走进社会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57200" y="1371600"/>
            <a:ext cx="8153280" cy="1068840"/>
            <a:chOff x="457200" y="1371600"/>
            <a:chExt cx="8153280" cy="1068840"/>
          </a:xfrm>
        </p:grpSpPr>
        <p:grpSp>
          <p:nvGrpSpPr>
            <p:cNvPr id="111" name=""/>
            <p:cNvGrpSpPr/>
            <p:nvPr/>
          </p:nvGrpSpPr>
          <p:grpSpPr>
            <a:xfrm>
              <a:off x="457200" y="1371600"/>
              <a:ext cx="1905120" cy="609480"/>
              <a:chOff x="457200" y="1371600"/>
              <a:chExt cx="1905120" cy="609480"/>
            </a:xfrm>
          </p:grpSpPr>
          <p:sp>
            <p:nvSpPr>
              <p:cNvPr id="112" name=""/>
              <p:cNvSpPr/>
              <p:nvPr/>
            </p:nvSpPr>
            <p:spPr>
              <a:xfrm>
                <a:off x="457200" y="1371600"/>
                <a:ext cx="1676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在社会中成长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05120" y="1905120"/>
                <a:ext cx="457200" cy="75960"/>
              </a:xfrm>
              <a:prstGeom prst="rightArrow">
                <a:avLst>
                  <a:gd name="adj1" fmla="val 50000"/>
                  <a:gd name="adj2" fmla="val 15047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629400" y="13716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大众传媒的影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2514600" y="1371600"/>
              <a:ext cx="1981080" cy="1068840"/>
              <a:chOff x="2514600" y="1371600"/>
              <a:chExt cx="1981080" cy="1068840"/>
            </a:xfrm>
          </p:grpSpPr>
          <p:sp>
            <p:nvSpPr>
              <p:cNvPr id="116" name=""/>
              <p:cNvSpPr/>
              <p:nvPr/>
            </p:nvSpPr>
            <p:spPr>
              <a:xfrm>
                <a:off x="4038480" y="1905120"/>
                <a:ext cx="457200" cy="75960"/>
              </a:xfrm>
              <a:prstGeom prst="rightArrow">
                <a:avLst>
                  <a:gd name="adj1" fmla="val 50000"/>
                  <a:gd name="adj2" fmla="val 15047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514600" y="1371600"/>
                <a:ext cx="1523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你我他的世界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4419720" y="1371600"/>
              <a:ext cx="2209680" cy="609480"/>
              <a:chOff x="4419720" y="1371600"/>
              <a:chExt cx="2209680" cy="60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6172200" y="1905120"/>
                <a:ext cx="457200" cy="75960"/>
              </a:xfrm>
              <a:prstGeom prst="rightArrow">
                <a:avLst>
                  <a:gd name="adj1" fmla="val 50000"/>
                  <a:gd name="adj2" fmla="val 15047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19720" y="1371600"/>
                <a:ext cx="1904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在社会的舞台上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3808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三、我对本单元教学后的感受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1752480"/>
            <a:ext cx="9144000" cy="3694680"/>
            <a:chOff x="0" y="1752480"/>
            <a:chExt cx="9144000" cy="3694680"/>
          </a:xfrm>
        </p:grpSpPr>
        <p:sp>
          <p:nvSpPr>
            <p:cNvPr id="123" name=""/>
            <p:cNvSpPr/>
            <p:nvPr/>
          </p:nvSpPr>
          <p:spPr>
            <a:xfrm>
              <a:off x="2666880" y="1752480"/>
              <a:ext cx="358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66"/>
                  </a:solidFill>
                  <a:latin typeface="华文行楷"/>
                  <a:ea typeface="华文行楷"/>
                </a:rPr>
                <a:t>案例</a:t>
              </a:r>
              <a:r>
                <a:rPr b="0" lang="zh-CN" sz="7200" spc="-1" strike="noStrike">
                  <a:solidFill>
                    <a:srgbClr val="ff0066"/>
                  </a:solidFill>
                  <a:latin typeface="华文行楷"/>
                  <a:ea typeface="华文行楷"/>
                </a:rPr>
                <a:t>1</a:t>
              </a:r>
              <a:r>
                <a:rPr b="0" lang="zh-CN" sz="72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    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3048120"/>
              <a:ext cx="9144000" cy="23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《社会舞台上的不同角色》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M_02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RX_021" descr=""/>
          <p:cNvPicPr/>
          <p:nvPr/>
        </p:nvPicPr>
        <p:blipFill>
          <a:blip r:embed="rId3"/>
          <a:stretch/>
        </p:blipFill>
        <p:spPr>
          <a:xfrm>
            <a:off x="3809880" y="2362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505320" y="1447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990720"/>
            <a:ext cx="17528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600200"/>
            <a:ext cx="17524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1676520"/>
            <a:ext cx="16765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2666880"/>
            <a:ext cx="182880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2743200"/>
            <a:ext cx="17524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3886200"/>
            <a:ext cx="16765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3962520"/>
            <a:ext cx="17524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114800"/>
            <a:ext cx="1828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说一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51814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我的角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685800"/>
            <a:ext cx="8839080" cy="4614840"/>
            <a:chOff x="0" y="685800"/>
            <a:chExt cx="8839080" cy="4614840"/>
          </a:xfrm>
        </p:grpSpPr>
        <p:sp>
          <p:nvSpPr>
            <p:cNvPr id="139" name=""/>
            <p:cNvSpPr/>
            <p:nvPr/>
          </p:nvSpPr>
          <p:spPr>
            <a:xfrm>
              <a:off x="2666880" y="685800"/>
              <a:ext cx="4419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66"/>
                  </a:solidFill>
                  <a:latin typeface="华文行楷"/>
                  <a:ea typeface="华文行楷"/>
                </a:rPr>
                <a:t>案例</a:t>
              </a:r>
              <a:r>
                <a:rPr b="1" lang="zh-CN" sz="6600" spc="-1" strike="noStrike">
                  <a:solidFill>
                    <a:srgbClr val="ff0066"/>
                  </a:solidFill>
                  <a:latin typeface="华文行楷"/>
                  <a:ea typeface="华文行楷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2133720"/>
              <a:ext cx="883908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《大众传媒的影响》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M_02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38080" y="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辩一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05740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电视对青少年学生的影响利大于弊还是弊大于利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RX_021" descr=""/>
          <p:cNvPicPr/>
          <p:nvPr/>
        </p:nvPicPr>
        <p:blipFill>
          <a:blip r:embed="rId3"/>
          <a:stretch/>
        </p:blipFill>
        <p:spPr>
          <a:xfrm>
            <a:off x="6934320" y="990720"/>
            <a:ext cx="1295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01:00:48Z</dcterms:created>
  <dc:creator>Legend User</dc:creator>
  <dc:description/>
  <dc:language>en-US</dc:language>
  <cp:lastModifiedBy>Legend User</cp:lastModifiedBy>
  <dcterms:modified xsi:type="dcterms:W3CDTF">2003-12-26T13:37:21Z</dcterms:modified>
  <cp:revision>41</cp:revision>
  <dc:subject/>
  <dc:title>PowerPoint 演示文稿</dc:title>
</cp:coreProperties>
</file>